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90AB3-13C5-4317-9D7D-6BF1FB1B2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90DF1-EF91-4B6D-938C-138FBE47F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39A80-2433-4FD1-97D7-F71DD024E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305AB-44BE-4388-846B-3E3021088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4AE65-DAE6-4829-94D9-B45A86BBB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455B9-E801-40EA-97B8-1A964FA43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A4F8D-1AEB-44B9-BEB3-45D1A522C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B5DA7-73AD-427B-9D3D-21183661B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D1B5F-39F8-4EAA-93F9-34301A4C1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6D4F1-7462-4D8F-92A6-4F17264E6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86D96-C692-4705-8143-C17EB2350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05617-108F-4250-8F0F-7D4F0D6AD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988B3-0E91-47B7-BCCB-287A08BB06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19200" y="1400040"/>
          <a:ext cx="6105600" cy="4057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9200" y="1400040"/>
                    <a:ext cx="610560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3:31Z</dcterms:created>
  <dc:creator>Oliver Craemer</dc:creator>
  <dc:description/>
  <dc:language>en-US</dc:language>
  <cp:lastModifiedBy>Oliver Craemer</cp:lastModifiedBy>
  <dcterms:modified xsi:type="dcterms:W3CDTF">2005-01-06T09:23:42Z</dcterms:modified>
  <cp:revision>1</cp:revision>
  <dc:subject/>
  <dc:title>Slide 1</dc:title>
</cp:coreProperties>
</file>