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71C58AD-A3BC-445F-9530-6344DFAA74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3280" cy="34149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F31-1644-457D-86C7-A67A166D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340-833E-4A8A-8CF2-49FCC10C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47C-8761-414E-B81C-7A829111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224-1BD4-4E40-AAE5-B83DD138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457-E0DC-48E9-9897-059B8E11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B44-2E9C-4D3D-AD80-99FEF57B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DA2-B536-4214-AA02-F65E343F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666-C9B5-4B25-98DB-01FB5757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5BA-1A95-4AE7-803D-506972C2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24F-9F39-4373-A0C5-7CE7566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31E-9B98-4B20-83AE-1899A179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76C-F8FB-4639-A24E-E320F981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ABEA-2D03-446E-83DB-45D87D559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Cleary, Steven G. Smith, and Brent Smolinski</a:t>
            </a: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1,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Mechanis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 Scientifi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24040"/>
            <a:ext cx="8076960" cy="152280"/>
            <a:chOff x="533520" y="82404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2404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3816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2508120"/>
            <a:ext cx="8076960" cy="152640"/>
            <a:chOff x="533520" y="250812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33520" y="250812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6226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glue code bridges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3280" y="3200400"/>
            <a:ext cx="3842640" cy="155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1960" y="1741320"/>
            <a:ext cx="168048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Librar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9520" y="2752560"/>
            <a:ext cx="292536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olver_Vector_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40040" y="3765600"/>
            <a:ext cx="3065760" cy="39888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DL “Run-Time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0720" y="4778280"/>
            <a:ext cx="298332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olver::Vector::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5791320"/>
            <a:ext cx="299268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ibrar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9200" y="2666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95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2"/>
            <a:endCxn id="181" idx="0"/>
          </p:cNvCxnSpPr>
          <p:nvPr/>
        </p:nvCxnSpPr>
        <p:spPr>
          <a:xfrm>
            <a:off x="7071840" y="2181240"/>
            <a:ext cx="108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2" idx="0"/>
          </p:cNvCxnSpPr>
          <p:nvPr/>
        </p:nvCxnSpPr>
        <p:spPr>
          <a:xfrm>
            <a:off x="7071840" y="3192480"/>
            <a:ext cx="252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2" idx="2"/>
            <a:endCxn id="183" idx="0"/>
          </p:cNvCxnSpPr>
          <p:nvPr/>
        </p:nvCxnSpPr>
        <p:spPr>
          <a:xfrm flipH="1">
            <a:off x="7071480" y="4204800"/>
            <a:ext cx="2520" cy="55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3" idx="2"/>
            <a:endCxn id="184" idx="0"/>
          </p:cNvCxnSpPr>
          <p:nvPr/>
        </p:nvCxnSpPr>
        <p:spPr>
          <a:xfrm>
            <a:off x="7071840" y="5218200"/>
            <a:ext cx="108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343400" y="48006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43400" y="297144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 the IDL stubs from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03760" y="1523880"/>
            <a:ext cx="5301360" cy="137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x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5560" y="4876920"/>
            <a:ext cx="412776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function error(A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x,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04480" y="2987640"/>
            <a:ext cx="508752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esult =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esu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9560" y="1963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6920" y="363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34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8400" y="5527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1000" y="5715000"/>
            <a:ext cx="1241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ata copies (means single address-spa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of a C++ virtual function call (or maybe a f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in either a threaded or MPI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Fortran 77/90 in “high-performance”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nd Python with maybe a little more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support for prototyping tools like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bility for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fficiently general to express most scientific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object oriented and support error mechani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goals for the interoperability of high-performance scientific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issues for scientific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existing technology whe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nd ILU IDLs and language map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inheritance and introspection id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features are needed in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the “Scientific IDL” onto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and overheads in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search approach in our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a simple prototype can work in a scientific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… add new features (e.g., distributed compu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our “Scientific IDL” looks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CORBA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riented, exceptions, namesp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 similar to Java and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s to all languages of interest but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(for now, anyway) unnecessar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way qua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and union (performance and Fortran consid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rrays and sequences (replaced - see be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data types and fix stupid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inheritance model broken - adopt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mplex type and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static and final qualifiers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IDL looks a lot like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24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specification for a linear solver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00200"/>
            <a:ext cx="8686800" cy="5030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itialize(in array&lt;double,1&gt; dat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C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Kryl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Abstract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olve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...) throws </a:t>
            </a: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Convergence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IDL expres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ly expressive for some numerical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INSOL, structured AMR linear solvers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ed at some parts of the PETS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system limited to types expressible in the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ointers and currently no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external opaque objects (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I_Com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only high-level interfaces will be expressed in the I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the intersection of language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can be supported through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object-oriented support in C or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introspection, RTTI, reference counting, exceptions 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mapping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/90 are the only re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Java mappings are defined by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mappings are defined by IL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structs do not add to complexity of language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 should be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C bindings for function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que object references become integers (as in 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tructs or unions needed (or can be mapped to obj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90 will be major pai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f77 mapping and not exploit expanded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IDL arrays to map onto Fortran 90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sequences and array descriptors compiler-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doing this by hand would be almost im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d the run-tim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ed run-time system is very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 space (perhaps distribut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design means no data copies (perhaps array transpo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requires function tables as in C++ or PET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is a few function calls (could be inlined awa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at do we need in a run-time sy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vtables for Java inheritanc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own casting and introspection qu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support as in CORBA (really just error return co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iscellaneous stuff (complex numbers in C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status and future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mplementation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ser/analyzer written in Java with Java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e for polymorphism/multiple inheritance support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ng prototype with parser stub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evelopmen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the technology can work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interoperability for C, C++, and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language mappings for f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language mappings for Java, Python, and MatLa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istributed capabilities (borrow existing techn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72496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interoperability mechani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IDL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n IDL for interoperability in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tra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002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c6d9c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c6d9c"/>
                </a:solidFill>
                <a:latin typeface="Arial"/>
              </a:rPr>
              <a:t>:  Apply IDL interoperability technology to problems in high-performance parallel scientif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the ID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teroperability (even for Fortran 90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support for object 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ve enough for many numerical librari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provides a nice description language fo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generates type information for intro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and potenti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designers write the IDL description (but … it’s si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mapping may not be as “natural” as if by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are limited to the IDL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lternativ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MI-1318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hould not be a barrier to software re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0" idx="2"/>
            <a:endCxn id="67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70" idx="2"/>
            <a:endCxn id="71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7" idx="2"/>
            <a:endCxn id="69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7" idx="2"/>
            <a:endCxn id="68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PETSc library implements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spection, RTTI, simple exception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726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language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6486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custom bindings for each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-intensive to generate bindings for supported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ailor binding to style and conventions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taken in the MPI standardization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4680" y="5499000"/>
            <a:ext cx="1574640" cy="660600"/>
            <a:chOff x="3784680" y="5499000"/>
            <a:chExt cx="1574640" cy="660600"/>
          </a:xfrm>
        </p:grpSpPr>
        <p:sp>
          <p:nvSpPr>
            <p:cNvPr id="81" name=""/>
            <p:cNvSpPr/>
            <p:nvPr/>
          </p:nvSpPr>
          <p:spPr>
            <a:xfrm>
              <a:off x="3860640" y="557532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0033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549900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07160" y="55926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Lib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108160" y="3213000"/>
            <a:ext cx="1270080" cy="507960"/>
            <a:chOff x="2108160" y="3213000"/>
            <a:chExt cx="1270080" cy="507960"/>
          </a:xfrm>
        </p:grpSpPr>
        <p:sp>
          <p:nvSpPr>
            <p:cNvPr id="85" name=""/>
            <p:cNvSpPr/>
            <p:nvPr/>
          </p:nvSpPr>
          <p:spPr>
            <a:xfrm>
              <a:off x="21844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81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6840" y="3230640"/>
              <a:ext cx="107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Fortr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55880" y="4127400"/>
            <a:ext cx="1574640" cy="812880"/>
            <a:chOff x="1955880" y="4127400"/>
            <a:chExt cx="1574640" cy="812880"/>
          </a:xfrm>
        </p:grpSpPr>
        <p:sp>
          <p:nvSpPr>
            <p:cNvPr id="89" name=""/>
            <p:cNvSpPr/>
            <p:nvPr/>
          </p:nvSpPr>
          <p:spPr>
            <a:xfrm>
              <a:off x="20318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58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92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Fortran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65760" y="3213000"/>
            <a:ext cx="1270080" cy="507960"/>
            <a:chOff x="5765760" y="3213000"/>
            <a:chExt cx="1270080" cy="507960"/>
          </a:xfrm>
        </p:grpSpPr>
        <p:sp>
          <p:nvSpPr>
            <p:cNvPr id="93" name=""/>
            <p:cNvSpPr/>
            <p:nvPr/>
          </p:nvSpPr>
          <p:spPr>
            <a:xfrm>
              <a:off x="58420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8920" y="3230640"/>
              <a:ext cx="66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36960" y="3213000"/>
            <a:ext cx="1270080" cy="507960"/>
            <a:chOff x="3936960" y="3213000"/>
            <a:chExt cx="1270080" cy="507960"/>
          </a:xfrm>
        </p:grpSpPr>
        <p:sp>
          <p:nvSpPr>
            <p:cNvPr id="97" name=""/>
            <p:cNvSpPr/>
            <p:nvPr/>
          </p:nvSpPr>
          <p:spPr>
            <a:xfrm>
              <a:off x="40132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69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9520" y="32306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84680" y="4127400"/>
            <a:ext cx="1574640" cy="812880"/>
            <a:chOff x="3784680" y="4127400"/>
            <a:chExt cx="1574640" cy="812880"/>
          </a:xfrm>
        </p:grpSpPr>
        <p:sp>
          <p:nvSpPr>
            <p:cNvPr id="101" name=""/>
            <p:cNvSpPr/>
            <p:nvPr/>
          </p:nvSpPr>
          <p:spPr>
            <a:xfrm>
              <a:off x="38606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80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3480" y="4127400"/>
            <a:ext cx="1574640" cy="812880"/>
            <a:chOff x="5613480" y="4127400"/>
            <a:chExt cx="1574640" cy="812880"/>
          </a:xfrm>
        </p:grpSpPr>
        <p:sp>
          <p:nvSpPr>
            <p:cNvPr id="105" name=""/>
            <p:cNvSpPr/>
            <p:nvPr/>
          </p:nvSpPr>
          <p:spPr>
            <a:xfrm>
              <a:off x="56894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34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68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++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7432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886200"/>
            <a:ext cx="6705360" cy="2514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181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ed with th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custom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that target small collections of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call interfaces or automatic glue code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WIG wraps C and C++ for calls from script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very general - limited only to subset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657600"/>
            <a:ext cx="94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16888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120" y="3276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840" y="4191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5920" y="5168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704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0"/>
            <a:endCxn id="119" idx="2"/>
          </p:cNvCxnSpPr>
          <p:nvPr/>
        </p:nvCxnSpPr>
        <p:spPr>
          <a:xfrm flipV="1">
            <a:off x="2388960" y="4587840"/>
            <a:ext cx="108360" cy="58140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2"/>
            <a:endCxn id="124" idx="0"/>
          </p:cNvCxnSpPr>
          <p:nvPr/>
        </p:nvCxnSpPr>
        <p:spPr>
          <a:xfrm>
            <a:off x="2389320" y="5565240"/>
            <a:ext cx="2202480" cy="53100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0" idx="3"/>
            <a:endCxn id="123" idx="1"/>
          </p:cNvCxnSpPr>
          <p:nvPr/>
        </p:nvCxnSpPr>
        <p:spPr>
          <a:xfrm>
            <a:off x="2720880" y="5366880"/>
            <a:ext cx="3604320" cy="10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128" name=""/>
          <p:cNvCxnSpPr>
            <a:stCxn id="119" idx="0"/>
            <a:endCxn id="121" idx="1"/>
          </p:cNvCxnSpPr>
          <p:nvPr/>
        </p:nvCxnSpPr>
        <p:spPr>
          <a:xfrm flipV="1">
            <a:off x="2496960" y="3474360"/>
            <a:ext cx="18201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0"/>
            <a:endCxn id="121" idx="3"/>
          </p:cNvCxnSpPr>
          <p:nvPr/>
        </p:nvCxnSpPr>
        <p:spPr>
          <a:xfrm flipH="1" flipV="1">
            <a:off x="4866480" y="3474360"/>
            <a:ext cx="18867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4" idx="0"/>
            <a:endCxn id="119" idx="3"/>
          </p:cNvCxnSpPr>
          <p:nvPr/>
        </p:nvCxnSpPr>
        <p:spPr>
          <a:xfrm flipH="1" flipV="1">
            <a:off x="2680560" y="4389120"/>
            <a:ext cx="1910520" cy="170712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1"/>
            <a:endCxn id="119" idx="3"/>
          </p:cNvCxnSpPr>
          <p:nvPr/>
        </p:nvCxnSpPr>
        <p:spPr>
          <a:xfrm flipH="1" flipV="1">
            <a:off x="2680920" y="4389120"/>
            <a:ext cx="3643920" cy="9784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0" idx="0"/>
            <a:endCxn id="121" idx="2"/>
          </p:cNvCxnSpPr>
          <p:nvPr/>
        </p:nvCxnSpPr>
        <p:spPr>
          <a:xfrm flipV="1">
            <a:off x="2389320" y="3673080"/>
            <a:ext cx="2203920" cy="14961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an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objects in an “interface definition languag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language interoperates with the “IDL languag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generates “glue” that wrap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012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0166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40800" y="3124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920" y="407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9960" y="5016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108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452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267080"/>
            <a:ext cx="144756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05320"/>
            <a:ext cx="0" cy="76176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2880" y="4266720"/>
            <a:ext cx="160020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8640" y="5181480"/>
            <a:ext cx="0" cy="8384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: Interface Definition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 interface descrip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s interface only (no implementation detai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independent way to describe object A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7400" y="2743200"/>
            <a:ext cx="5671440" cy="37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600" spc="-1" strike="noStrike">
                <a:solidFill>
                  <a:srgbClr val="ff0033"/>
                </a:solidFill>
                <a:latin typeface="Courier New"/>
              </a:rPr>
              <a:t>Sparse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generates “glue” code from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58600" y="1555920"/>
            <a:ext cx="7908840" cy="5015160"/>
            <a:chOff x="858600" y="1555920"/>
            <a:chExt cx="7908840" cy="5015160"/>
          </a:xfrm>
        </p:grpSpPr>
        <p:sp>
          <p:nvSpPr>
            <p:cNvPr id="154" name=""/>
            <p:cNvSpPr/>
            <p:nvPr/>
          </p:nvSpPr>
          <p:spPr>
            <a:xfrm>
              <a:off x="3677400" y="3657600"/>
              <a:ext cx="1931760" cy="3988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IDL Compi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3840" y="1555920"/>
              <a:ext cx="200628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cc"/>
                  </a:solidFill>
                  <a:latin typeface="Arial"/>
                </a:rPr>
                <a:t>hypre</a:t>
              </a: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 Interface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0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6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Skele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3160" y="3505320"/>
              <a:ext cx="13831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r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3505320"/>
              <a:ext cx="205740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c6d9c"/>
                  </a:solidFill>
                  <a:latin typeface="Arial"/>
                </a:rPr>
                <a:t>hypre </a:t>
              </a: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8" idx="3"/>
              <a:endCxn id="154" idx="1"/>
            </p:cNvCxnSpPr>
            <p:nvPr/>
          </p:nvCxnSpPr>
          <p:spPr>
            <a:xfrm>
              <a:off x="2576160" y="3870000"/>
              <a:ext cx="1072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4" idx="3"/>
              <a:endCxn id="159" idx="1"/>
            </p:cNvCxnSpPr>
            <p:nvPr/>
          </p:nvCxnSpPr>
          <p:spPr>
            <a:xfrm>
              <a:off x="5638320" y="3870000"/>
              <a:ext cx="901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2" name=""/>
            <p:cNvCxnSpPr>
              <a:stCxn id="155" idx="2"/>
              <a:endCxn id="154" idx="0"/>
            </p:cNvCxnSpPr>
            <p:nvPr/>
          </p:nvCxnSpPr>
          <p:spPr>
            <a:xfrm>
              <a:off x="4636800" y="2300400"/>
              <a:ext cx="6840" cy="13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4" idx="2"/>
              <a:endCxn id="156" idx="0"/>
            </p:cNvCxnSpPr>
            <p:nvPr/>
          </p:nvCxnSpPr>
          <p:spPr>
            <a:xfrm flipH="1">
              <a:off x="3426840" y="4096800"/>
              <a:ext cx="121644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4" idx="2"/>
              <a:endCxn id="157" idx="0"/>
            </p:cNvCxnSpPr>
            <p:nvPr/>
          </p:nvCxnSpPr>
          <p:spPr>
            <a:xfrm>
              <a:off x="4642920" y="4096800"/>
              <a:ext cx="107100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4" idx="0"/>
              <a:endCxn id="166" idx="3"/>
            </p:cNvCxnSpPr>
            <p:nvPr/>
          </p:nvCxnSpPr>
          <p:spPr>
            <a:xfrm flipV="1">
              <a:off x="4643280" y="2985480"/>
              <a:ext cx="2912400" cy="65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167" name=""/>
            <p:cNvGrpSpPr/>
            <p:nvPr/>
          </p:nvGrpSpPr>
          <p:grpSpPr>
            <a:xfrm>
              <a:off x="6340320" y="1600200"/>
              <a:ext cx="2427120" cy="1371600"/>
              <a:chOff x="6340320" y="1600200"/>
              <a:chExt cx="2427120" cy="137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40320" y="1600200"/>
                <a:ext cx="2427120" cy="1371600"/>
              </a:xfrm>
              <a:prstGeom prst="flowChartMagneticDisk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6160" y="2158920"/>
                <a:ext cx="239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Language Mapping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Compiler Detai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5680" y="1600200"/>
                <a:ext cx="179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68686"/>
                    </a:solidFill>
                    <a:latin typeface="Arial"/>
                  </a:rPr>
                  <a:t>IDL 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58600" y="5867280"/>
              <a:ext cx="156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d by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ibrary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6040" y="586728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wraps 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209680" y="6019560"/>
              <a:ext cx="392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6019920"/>
              <a:ext cx="312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426708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4191120"/>
              <a:ext cx="242712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5715000"/>
              <a:ext cx="78264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400800" y="426672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oftWindows</cp:lastModifiedBy>
  <cp:lastPrinted>1998-10-27T15:54:28Z</cp:lastPrinted>
  <dcterms:modified xsi:type="dcterms:W3CDTF">1999-05-12T22:18:50Z</dcterms:modified>
  <cp:revision>72</cp:revision>
  <dc:subject>CCA Interoperability and the CORBA IDL</dc:subject>
  <dc:title>CCA Interoperability</dc:title>
</cp:coreProperties>
</file>