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2960" y="4346280"/>
            <a:ext cx="503064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6D9033FF-540A-45C6-BB88-A662124FDD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babel_dropshadow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86200" y="6383160"/>
            <a:ext cx="129528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3504960"/>
            <a:ext cx="8305920" cy="28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ary Kumfert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m Epperly, Scott Kohn, &amp;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eve Smi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57200" y="228600"/>
            <a:ext cx="8077320" cy="151920"/>
            <a:chOff x="457200" y="228600"/>
            <a:chExt cx="8077320" cy="151920"/>
          </a:xfrm>
        </p:grpSpPr>
        <p:sp>
          <p:nvSpPr>
            <p:cNvPr id="50" name=""/>
            <p:cNvSpPr/>
            <p:nvPr/>
          </p:nvSpPr>
          <p:spPr>
            <a:xfrm>
              <a:off x="457200" y="22860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42720"/>
              <a:ext cx="8077320" cy="3780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33520" y="3352680"/>
            <a:ext cx="8076960" cy="152280"/>
            <a:chOff x="533520" y="3352680"/>
            <a:chExt cx="8076960" cy="152280"/>
          </a:xfrm>
        </p:grpSpPr>
        <p:sp>
          <p:nvSpPr>
            <p:cNvPr id="53" name=""/>
            <p:cNvSpPr/>
            <p:nvPr/>
          </p:nvSpPr>
          <p:spPr>
            <a:xfrm>
              <a:off x="533520" y="335268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34668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28600" y="304920"/>
            <a:ext cx="68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hieving Langu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teroperability wi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abel_dropshadow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552760" y="1954080"/>
            <a:ext cx="403848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DL (Scientific Interfac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 Languag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82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s on Industry IDL technolog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for  Scientific Ap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multidimensional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752480"/>
            <a:ext cx="4495680" cy="3141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rsion Hello 1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ckage Hello 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 World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 getMsg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-76320"/>
            <a:ext cx="9296280" cy="693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57200" y="685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457200" y="1447920"/>
            <a:ext cx="9601200" cy="5410080"/>
            <a:chOff x="-457200" y="1447920"/>
            <a:chExt cx="9601200" cy="5410080"/>
          </a:xfrm>
        </p:grpSpPr>
        <p:sp>
          <p:nvSpPr>
            <p:cNvPr id="154" name=""/>
            <p:cNvSpPr/>
            <p:nvPr/>
          </p:nvSpPr>
          <p:spPr>
            <a:xfrm>
              <a:off x="-457200" y="1447920"/>
              <a:ext cx="960120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1523880"/>
              <a:ext cx="685800" cy="5334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-457200" y="1828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457200" y="2209680"/>
            <a:ext cx="9601200" cy="152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457200" y="3657600"/>
            <a:ext cx="9601200" cy="12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57200" y="4800600"/>
            <a:ext cx="960120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57200" y="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0"/>
            <a:ext cx="8763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sion MySolverLib 0.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ES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MySolverLib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face MatrixGenerator { ...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OptionDataba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getOption( in string nam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 string v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Vector implements-all ESI.Vec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Options( in OptionDatabase db )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Bizarre implements MatrixGenera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Data( in array&lt;dcomplex,2&gt; a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ny forms of language interoperable interfa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164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3640" y="2362320"/>
            <a:ext cx="2245680" cy="1407960"/>
            <a:chOff x="5633640" y="2362320"/>
            <a:chExt cx="2245680" cy="1407960"/>
          </a:xfrm>
        </p:grpSpPr>
        <p:sp>
          <p:nvSpPr>
            <p:cNvPr id="167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33640" y="2944800"/>
              <a:ext cx="224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al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171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172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0190000">
            <a:off x="618840" y="1968480"/>
            <a:ext cx="278676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190000">
            <a:off x="4509360" y="5586480"/>
            <a:ext cx="243180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20190000">
            <a:off x="5096520" y="1886040"/>
            <a:ext cx="302292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enables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799880" y="1371600"/>
            <a:ext cx="4345560" cy="2352600"/>
            <a:chOff x="4799880" y="1371600"/>
            <a:chExt cx="4345560" cy="2352600"/>
          </a:xfrm>
        </p:grpSpPr>
        <p:cxnSp>
          <p:nvCxnSpPr>
            <p:cNvPr id="181" name=""/>
            <p:cNvCxnSpPr>
              <a:stCxn id="182" idx="2"/>
              <a:endCxn id="183" idx="2"/>
            </p:cNvCxnSpPr>
            <p:nvPr/>
          </p:nvCxnSpPr>
          <p:spPr>
            <a:xfrm rot="5400000">
              <a:off x="5284080" y="1953720"/>
              <a:ext cx="1243800" cy="2212200"/>
            </a:xfrm>
            <a:prstGeom prst="curvedConnector5">
              <a:avLst>
                <a:gd name="adj1" fmla="val 49015"/>
                <a:gd name="adj2" fmla="val 50000"/>
                <a:gd name="adj3" fmla="val 49015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4878720" y="1371600"/>
              <a:ext cx="426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cre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via higher-level to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248520" y="2438280"/>
              <a:ext cx="1876320" cy="12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CCAScript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7160" y="1600200"/>
            <a:ext cx="5182920" cy="4571640"/>
            <a:chOff x="227160" y="1600200"/>
            <a:chExt cx="5182920" cy="4571640"/>
          </a:xfrm>
        </p:grpSpPr>
        <p:cxnSp>
          <p:nvCxnSpPr>
            <p:cNvPr id="186" name=""/>
            <p:cNvCxnSpPr>
              <a:stCxn id="187" idx="6"/>
              <a:endCxn id="183" idx="0"/>
            </p:cNvCxnSpPr>
            <p:nvPr/>
          </p:nvCxnSpPr>
          <p:spPr>
            <a:xfrm>
              <a:off x="1600200" y="3124080"/>
              <a:ext cx="3201120" cy="5580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4191120" y="3657600"/>
              <a:ext cx="1218960" cy="914400"/>
            </a:xfrm>
            <a:prstGeom prst="cloudCallout">
              <a:avLst>
                <a:gd name="adj1" fmla="val -17708"/>
                <a:gd name="adj2" fmla="val 21493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14800" y="4876920"/>
              <a:ext cx="1142640" cy="1294920"/>
              <a:chOff x="4114800" y="4876920"/>
              <a:chExt cx="1142640" cy="1294920"/>
            </a:xfrm>
          </p:grpSpPr>
          <p:sp>
            <p:nvSpPr>
              <p:cNvPr id="189" name=""/>
              <p:cNvSpPr/>
              <p:nvPr/>
            </p:nvSpPr>
            <p:spPr>
              <a:xfrm>
                <a:off x="4114800" y="4876920"/>
                <a:ext cx="1142640" cy="129492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4800" y="4876920"/>
                <a:ext cx="1142640" cy="4316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286000" y="2666880"/>
              <a:ext cx="1599840" cy="1295280"/>
              <a:chOff x="2286000" y="2666880"/>
              <a:chExt cx="1599840" cy="1295280"/>
            </a:xfrm>
          </p:grpSpPr>
          <p:sp>
            <p:nvSpPr>
              <p:cNvPr id="192" name=""/>
              <p:cNvSpPr/>
              <p:nvPr/>
            </p:nvSpPr>
            <p:spPr>
              <a:xfrm>
                <a:off x="2286000" y="3626640"/>
                <a:ext cx="1109160" cy="335520"/>
              </a:xfrm>
              <a:prstGeom prst="cube">
                <a:avLst>
                  <a:gd name="adj" fmla="val 6131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94320" y="2763000"/>
                <a:ext cx="735840" cy="764640"/>
              </a:xfrm>
              <a:prstGeom prst="cube">
                <a:avLst>
                  <a:gd name="adj" fmla="val 2500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6000" y="2666880"/>
                <a:ext cx="1155240" cy="1007640"/>
              </a:xfrm>
              <a:prstGeom prst="cube">
                <a:avLst>
                  <a:gd name="adj" fmla="val 1012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7880" y="2796120"/>
                <a:ext cx="597960" cy="1161720"/>
              </a:xfrm>
              <a:prstGeom prst="cube">
                <a:avLst>
                  <a:gd name="adj" fmla="val 44967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8520" y="2858400"/>
                <a:ext cx="87732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31440" y="31849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31440" y="32713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85800" y="266688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7160" y="1600200"/>
              <a:ext cx="474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Type Descrip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n Shared Repositori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24280" y="449568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04560" y="4113720"/>
            <a:ext cx="3861000" cy="2363040"/>
            <a:chOff x="304560" y="4113720"/>
            <a:chExt cx="3861000" cy="2363040"/>
          </a:xfrm>
        </p:grpSpPr>
        <p:grpSp>
          <p:nvGrpSpPr>
            <p:cNvPr id="202" name=""/>
            <p:cNvGrpSpPr/>
            <p:nvPr/>
          </p:nvGrpSpPr>
          <p:grpSpPr>
            <a:xfrm>
              <a:off x="2514600" y="5029200"/>
              <a:ext cx="1371600" cy="1447560"/>
              <a:chOff x="2514600" y="5029200"/>
              <a:chExt cx="1371600" cy="1447560"/>
            </a:xfrm>
          </p:grpSpPr>
          <p:pic>
            <p:nvPicPr>
              <p:cNvPr id="203" name="hp_icon_netscape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4000" y="5089320"/>
                <a:ext cx="1306800" cy="13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2514600" y="5994360"/>
                <a:ext cx="1371600" cy="48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4788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7400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12680" y="5089320"/>
                <a:ext cx="834840" cy="6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685800" y="533412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560" y="4191120"/>
              <a:ext cx="237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Brows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or Typ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183" idx="1"/>
              <a:endCxn id="208" idx="6"/>
            </p:cNvCxnSpPr>
            <p:nvPr/>
          </p:nvCxnSpPr>
          <p:spPr>
            <a:xfrm flipV="1" rot="10800000">
              <a:off x="1599480" y="4113720"/>
              <a:ext cx="2566080" cy="1677240"/>
            </a:xfrm>
            <a:prstGeom prst="curvedConnector5">
              <a:avLst>
                <a:gd name="adj1" fmla="val 49501"/>
                <a:gd name="adj2" fmla="val 50000"/>
                <a:gd name="adj3" fmla="val 4950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5436720" y="3657600"/>
            <a:ext cx="3707280" cy="2666880"/>
            <a:chOff x="5436720" y="3657600"/>
            <a:chExt cx="3707280" cy="2666880"/>
          </a:xfrm>
        </p:grpSpPr>
        <p:sp>
          <p:nvSpPr>
            <p:cNvPr id="212" name=""/>
            <p:cNvSpPr/>
            <p:nvPr/>
          </p:nvSpPr>
          <p:spPr>
            <a:xfrm>
              <a:off x="5943600" y="3657600"/>
              <a:ext cx="32004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earch &amp; discovery by advanced builde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638680" y="5181480"/>
              <a:ext cx="1371600" cy="1143000"/>
              <a:chOff x="5638680" y="5181480"/>
              <a:chExt cx="1371600" cy="1143000"/>
            </a:xfrm>
          </p:grpSpPr>
          <p:sp>
            <p:nvSpPr>
              <p:cNvPr id="214" name=""/>
              <p:cNvSpPr/>
              <p:nvPr/>
            </p:nvSpPr>
            <p:spPr>
              <a:xfrm>
                <a:off x="5638680" y="5181480"/>
                <a:ext cx="1371600" cy="11430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67280" y="5410080"/>
                <a:ext cx="106668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1956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48160" y="57146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5308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5880" y="6019560"/>
                <a:ext cx="152280" cy="152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95880" y="579096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8680" y="5181480"/>
                <a:ext cx="1371600" cy="75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38680" y="5333760"/>
                <a:ext cx="1371600" cy="76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38680" y="5486040"/>
                <a:ext cx="228600" cy="838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4" name=""/>
            <p:cNvCxnSpPr>
              <a:stCxn id="183" idx="3"/>
              <a:endCxn id="221" idx="0"/>
            </p:cNvCxnSpPr>
            <p:nvPr/>
          </p:nvCxnSpPr>
          <p:spPr>
            <a:xfrm>
              <a:off x="5436720" y="4114440"/>
              <a:ext cx="888120" cy="10674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965400" y="2666880"/>
            <a:ext cx="4569120" cy="1828800"/>
            <a:chOff x="3965400" y="2666880"/>
            <a:chExt cx="4569120" cy="1828800"/>
          </a:xfrm>
        </p:grpSpPr>
        <p:sp>
          <p:nvSpPr>
            <p:cNvPr id="230" name=""/>
            <p:cNvSpPr/>
            <p:nvPr/>
          </p:nvSpPr>
          <p:spPr>
            <a:xfrm>
              <a:off x="7772400" y="3657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5400" y="2666880"/>
              <a:ext cx="4550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If developer used Babel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they also have a SIDL fil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267080" y="3886200"/>
            <a:ext cx="3504960" cy="860400"/>
            <a:chOff x="4267080" y="3886200"/>
            <a:chExt cx="3504960" cy="860400"/>
          </a:xfrm>
        </p:grpSpPr>
        <p:pic>
          <p:nvPicPr>
            <p:cNvPr id="233" name="babel_dropshadow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 flipH="1" rot="10800000">
              <a:off x="4267080" y="3886200"/>
              <a:ext cx="2362320" cy="860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4" name=""/>
            <p:cNvCxnSpPr>
              <a:stCxn id="230" idx="1"/>
              <a:endCxn id="233" idx="3"/>
            </p:cNvCxnSpPr>
            <p:nvPr/>
          </p:nvCxnSpPr>
          <p:spPr>
            <a:xfrm flipV="1" rot="10800000">
              <a:off x="6627240" y="4076280"/>
              <a:ext cx="1145160" cy="240480"/>
            </a:xfrm>
            <a:prstGeom prst="curvedConnector5">
              <a:avLst>
                <a:gd name="adj1" fmla="val 49905"/>
                <a:gd name="adj2" fmla="val 49925"/>
                <a:gd name="adj3" fmla="val 49905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  <p:grpSp>
        <p:nvGrpSpPr>
          <p:cNvPr id="235" name=""/>
          <p:cNvGrpSpPr/>
          <p:nvPr/>
        </p:nvGrpSpPr>
        <p:grpSpPr>
          <a:xfrm>
            <a:off x="838080" y="2590920"/>
            <a:ext cx="3429000" cy="3089520"/>
            <a:chOff x="838080" y="2590920"/>
            <a:chExt cx="3429000" cy="3089520"/>
          </a:xfrm>
        </p:grpSpPr>
        <p:grpSp>
          <p:nvGrpSpPr>
            <p:cNvPr id="236" name=""/>
            <p:cNvGrpSpPr/>
            <p:nvPr/>
          </p:nvGrpSpPr>
          <p:grpSpPr>
            <a:xfrm>
              <a:off x="838080" y="2590920"/>
              <a:ext cx="1828800" cy="2361960"/>
              <a:chOff x="838080" y="2590920"/>
              <a:chExt cx="1828800" cy="2361960"/>
            </a:xfrm>
          </p:grpSpPr>
          <p:sp>
            <p:nvSpPr>
              <p:cNvPr id="237" name=""/>
              <p:cNvSpPr/>
              <p:nvPr/>
            </p:nvSpPr>
            <p:spPr>
              <a:xfrm>
                <a:off x="838080" y="2590920"/>
                <a:ext cx="1828800" cy="838080"/>
              </a:xfrm>
              <a:prstGeom prst="downArrowCallout">
                <a:avLst>
                  <a:gd name="adj1" fmla="val 33725"/>
                  <a:gd name="adj2" fmla="val 45835"/>
                  <a:gd name="adj3" fmla="val 20468"/>
                  <a:gd name="adj4" fmla="val 66667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8080" y="4114800"/>
                <a:ext cx="1828800" cy="838080"/>
              </a:xfrm>
              <a:prstGeom prst="upArrowCallout">
                <a:avLst>
                  <a:gd name="adj1" fmla="val 45849"/>
                  <a:gd name="adj2" fmla="val 42804"/>
                  <a:gd name="adj3" fmla="val 22222"/>
                  <a:gd name="adj4" fmla="val 73856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ke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38080" y="3543480"/>
                <a:ext cx="1828800" cy="4597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IO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0" name=""/>
            <p:cNvCxnSpPr>
              <a:stCxn id="233" idx="1"/>
              <a:endCxn id="237" idx="0"/>
            </p:cNvCxnSpPr>
            <p:nvPr/>
          </p:nvCxnSpPr>
          <p:spPr>
            <a:xfrm rot="10800000">
              <a:off x="2685240" y="2869560"/>
              <a:ext cx="1581840" cy="1446840"/>
            </a:xfrm>
            <a:prstGeom prst="curvedConnector5">
              <a:avLst>
                <a:gd name="adj1" fmla="val 50580"/>
                <a:gd name="adj2" fmla="val 50000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33" idx="1"/>
              <a:endCxn id="227" idx="0"/>
            </p:cNvCxnSpPr>
            <p:nvPr/>
          </p:nvCxnSpPr>
          <p:spPr>
            <a:xfrm flipV="1" rot="10800000">
              <a:off x="2685240" y="4316040"/>
              <a:ext cx="1581840" cy="1364400"/>
            </a:xfrm>
            <a:prstGeom prst="curvedConnector5">
              <a:avLst>
                <a:gd name="adj1" fmla="val 50580"/>
                <a:gd name="adj2" fmla="val 49986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33" idx="1"/>
              <a:endCxn id="239" idx="3"/>
            </p:cNvCxnSpPr>
            <p:nvPr/>
          </p:nvCxnSpPr>
          <p:spPr>
            <a:xfrm rot="10800000">
              <a:off x="2685240" y="3790080"/>
              <a:ext cx="1581840" cy="526320"/>
            </a:xfrm>
            <a:prstGeom prst="curvedConnector5">
              <a:avLst>
                <a:gd name="adj1" fmla="val 50580"/>
                <a:gd name="adj2" fmla="val 49965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33" idx="1"/>
              <a:endCxn id="238" idx="0"/>
            </p:cNvCxnSpPr>
            <p:nvPr/>
          </p:nvCxnSpPr>
          <p:spPr>
            <a:xfrm flipV="1" rot="10800000">
              <a:off x="2685240" y="4316040"/>
              <a:ext cx="1581840" cy="373680"/>
            </a:xfrm>
            <a:prstGeom prst="curvedConnector5">
              <a:avLst>
                <a:gd name="adj1" fmla="val 50580"/>
                <a:gd name="adj2" fmla="val 49951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8080" y="2590920"/>
            <a:ext cx="1828800" cy="2361960"/>
            <a:chOff x="838080" y="2590920"/>
            <a:chExt cx="1828800" cy="2361960"/>
          </a:xfrm>
        </p:grpSpPr>
        <p:sp>
          <p:nvSpPr>
            <p:cNvPr id="247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2590920"/>
            <a:ext cx="57657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Side Stubs: user’s LOP to 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Object Representation (IOR):  Always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ide Skeletons:  translates IOR (in C) to developer’s 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1600200"/>
            <a:ext cx="2895480" cy="495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2286000"/>
            <a:ext cx="480060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ed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basic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rays are multidimensional, no arrays of array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1523880"/>
            <a:ext cx="2286000" cy="312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228600" y="1447920"/>
            <a:ext cx="9677520" cy="5715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2743200"/>
            <a:ext cx="518148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O Method Disp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3352680"/>
            <a:ext cx="46479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4038480"/>
            <a:ext cx="784872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Combinations of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362320" y="4876920"/>
            <a:ext cx="2819160" cy="1371600"/>
            <a:chOff x="2362320" y="4876920"/>
            <a:chExt cx="2819160" cy="1371600"/>
          </a:xfrm>
        </p:grpSpPr>
        <p:sp>
          <p:nvSpPr>
            <p:cNvPr id="261" name=""/>
            <p:cNvSpPr/>
            <p:nvPr/>
          </p:nvSpPr>
          <p:spPr>
            <a:xfrm>
              <a:off x="2362320" y="48769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62320" y="53341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62320" y="57913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819520" y="5791320"/>
              <a:ext cx="2286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62320" y="4876920"/>
              <a:ext cx="27432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62320" y="4876920"/>
              <a:ext cx="2743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362320" y="49525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2320" y="5334120"/>
              <a:ext cx="2666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362320" y="5028840"/>
              <a:ext cx="2743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362320" y="54097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895480" y="5028840"/>
              <a:ext cx="22860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895480" y="5257800"/>
              <a:ext cx="22860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Much Language Interoperability Have We Achieve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228600" y="2590920"/>
            <a:ext cx="9677520" cy="541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4952880"/>
            <a:ext cx="48006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31 test cas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and count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 foresee, based on experience with our tests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8600" y="1905120"/>
            <a:ext cx="4103640" cy="5410080"/>
            <a:chOff x="228600" y="1905120"/>
            <a:chExt cx="4103640" cy="5410080"/>
          </a:xfrm>
        </p:grpSpPr>
        <p:grpSp>
          <p:nvGrpSpPr>
            <p:cNvPr id="278" name=""/>
            <p:cNvGrpSpPr/>
            <p:nvPr/>
          </p:nvGrpSpPr>
          <p:grpSpPr>
            <a:xfrm>
              <a:off x="228600" y="3475080"/>
              <a:ext cx="4103640" cy="3840120"/>
              <a:chOff x="228600" y="3475080"/>
              <a:chExt cx="4103640" cy="3840120"/>
            </a:xfrm>
          </p:grpSpPr>
          <p:sp>
            <p:nvSpPr>
              <p:cNvPr id="279" name=""/>
              <p:cNvSpPr/>
              <p:nvPr/>
            </p:nvSpPr>
            <p:spPr>
              <a:xfrm>
                <a:off x="735120" y="3735360"/>
                <a:ext cx="3597120" cy="3579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4800" y="3813120"/>
                <a:ext cx="3319200" cy="70020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74800" y="3890880"/>
                <a:ext cx="3319200" cy="700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95440" y="5369040"/>
                <a:ext cx="276480" cy="31248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5526000"/>
                <a:ext cx="2305080" cy="933480"/>
              </a:xfrm>
              <a:custGeom>
                <a:avLst/>
                <a:gdLst/>
                <a:ahLst/>
                <a:rect l="l" t="t" r="r" b="b"/>
                <a:pathLst>
                  <a:path w="1600" h="576">
                    <a:moveTo>
                      <a:pt x="1600" y="0"/>
                    </a:moveTo>
                    <a:cubicBezTo>
                      <a:pt x="1008" y="288"/>
                      <a:pt x="416" y="576"/>
                      <a:pt x="208" y="576"/>
                    </a:cubicBezTo>
                    <a:cubicBezTo>
                      <a:pt x="0" y="576"/>
                      <a:pt x="176" y="288"/>
                      <a:pt x="352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771840" y="3475080"/>
                <a:ext cx="3385080" cy="1143000"/>
                <a:chOff x="771840" y="3475080"/>
                <a:chExt cx="3385080" cy="1143000"/>
              </a:xfrm>
            </p:grpSpPr>
            <p:sp>
              <p:nvSpPr>
                <p:cNvPr id="285" name=""/>
                <p:cNvSpPr/>
                <p:nvPr/>
              </p:nvSpPr>
              <p:spPr>
                <a:xfrm rot="21216000">
                  <a:off x="804600" y="3657600"/>
                  <a:ext cx="3319200" cy="777600"/>
                </a:xfrm>
                <a:prstGeom prst="ellipse">
                  <a:avLst/>
                </a:prstGeom>
                <a:solidFill>
                  <a:srgbClr val="4d4d4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1216000">
                  <a:off x="800280" y="3657960"/>
                  <a:ext cx="3319200" cy="69984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21216000">
                  <a:off x="938520" y="3735360"/>
                  <a:ext cx="3042360" cy="5439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288" name=""/>
            <p:cNvCxnSpPr>
              <a:stCxn id="289" idx="4"/>
              <a:endCxn id="286" idx="2"/>
            </p:cNvCxnSpPr>
            <p:nvPr/>
          </p:nvCxnSpPr>
          <p:spPr>
            <a:xfrm flipH="1" rot="16200000">
              <a:off x="-605520" y="2777040"/>
              <a:ext cx="2288160" cy="5436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0" name=""/>
          <p:cNvGrpSpPr/>
          <p:nvPr/>
        </p:nvGrpSpPr>
        <p:grpSpPr>
          <a:xfrm>
            <a:off x="152280" y="1523880"/>
            <a:ext cx="5373360" cy="581400"/>
            <a:chOff x="152280" y="1523880"/>
            <a:chExt cx="5373360" cy="581400"/>
          </a:xfrm>
        </p:grpSpPr>
        <p:sp>
          <p:nvSpPr>
            <p:cNvPr id="291" name=""/>
            <p:cNvSpPr/>
            <p:nvPr/>
          </p:nvSpPr>
          <p:spPr>
            <a:xfrm>
              <a:off x="378360" y="1523880"/>
              <a:ext cx="514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anguage Interoper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280" y="16765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506040" y="2286000"/>
            <a:ext cx="5639400" cy="2043720"/>
            <a:chOff x="3506040" y="2286000"/>
            <a:chExt cx="5639400" cy="2043720"/>
          </a:xfrm>
        </p:grpSpPr>
        <p:sp>
          <p:nvSpPr>
            <p:cNvPr id="293" name=""/>
            <p:cNvSpPr/>
            <p:nvPr/>
          </p:nvSpPr>
          <p:spPr>
            <a:xfrm>
              <a:off x="4877280" y="2286000"/>
              <a:ext cx="42681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evelop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nfiguration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ackaging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&amp; Deploy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8320" y="251460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4" idx="2"/>
              <a:endCxn id="287" idx="7"/>
            </p:cNvCxnSpPr>
            <p:nvPr/>
          </p:nvCxnSpPr>
          <p:spPr>
            <a:xfrm flipV="1" rot="10800000">
              <a:off x="3506040" y="2628000"/>
              <a:ext cx="1142280" cy="10674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6" name=""/>
          <p:cNvGrpSpPr/>
          <p:nvPr/>
        </p:nvGrpSpPr>
        <p:grpSpPr>
          <a:xfrm>
            <a:off x="3548880" y="4077720"/>
            <a:ext cx="5100120" cy="2202840"/>
            <a:chOff x="3548880" y="4077720"/>
            <a:chExt cx="5100120" cy="2202840"/>
          </a:xfrm>
        </p:grpSpPr>
        <p:sp>
          <p:nvSpPr>
            <p:cNvPr id="297" name=""/>
            <p:cNvSpPr/>
            <p:nvPr/>
          </p:nvSpPr>
          <p:spPr>
            <a:xfrm>
              <a:off x="5409720" y="4724280"/>
              <a:ext cx="3239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Us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48769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" name=""/>
            <p:cNvCxnSpPr>
              <a:stCxn id="298" idx="2"/>
              <a:endCxn id="287" idx="5"/>
            </p:cNvCxnSpPr>
            <p:nvPr/>
          </p:nvCxnSpPr>
          <p:spPr>
            <a:xfrm rot="10800000">
              <a:off x="3548880" y="4077720"/>
              <a:ext cx="1632600" cy="91332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300" name=""/>
          <p:cNvGrpSpPr/>
          <p:nvPr/>
        </p:nvGrpSpPr>
        <p:grpSpPr>
          <a:xfrm>
            <a:off x="392400" y="2069280"/>
            <a:ext cx="4087800" cy="2006280"/>
            <a:chOff x="392400" y="2069280"/>
            <a:chExt cx="4087800" cy="2006280"/>
          </a:xfrm>
        </p:grpSpPr>
        <p:sp>
          <p:nvSpPr>
            <p:cNvPr id="301" name=""/>
            <p:cNvSpPr/>
            <p:nvPr/>
          </p:nvSpPr>
          <p:spPr>
            <a:xfrm flipH="1" rot="4316400">
              <a:off x="2551680" y="1056240"/>
              <a:ext cx="406440" cy="3496320"/>
            </a:xfrm>
            <a:custGeom>
              <a:avLst/>
              <a:gdLst>
                <a:gd name="textAreaLeft" fmla="*/ 89280 w 406440"/>
                <a:gd name="textAreaRight" fmla="*/ 317160 w 406440"/>
                <a:gd name="textAreaTop" fmla="*/ 768600 h 3496320"/>
                <a:gd name="textAreaBottom" fmla="*/ 2727720 h 349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0516400">
              <a:off x="548640" y="2612520"/>
              <a:ext cx="388440" cy="106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640" y="2454"/>
                    <a:pt x="13680" y="5080"/>
                    <a:pt x="13680" y="10800"/>
                  </a:cubicBezTo>
                  <a:cubicBezTo>
                    <a:pt x="13680" y="16520"/>
                    <a:pt x="17640" y="191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rot="20516400">
              <a:off x="799920" y="3819240"/>
              <a:ext cx="465840" cy="188640"/>
            </a:xfrm>
            <a:prstGeom prst="roundRect">
              <a:avLst>
                <a:gd name="adj" fmla="val 16667"/>
              </a:avLst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20516400">
              <a:off x="634680" y="3153240"/>
              <a:ext cx="465840" cy="503280"/>
            </a:xfrm>
            <a:custGeom>
              <a:avLst/>
              <a:gdLst>
                <a:gd name="textAreaLeft" fmla="*/ 22680 w 465840"/>
                <a:gd name="textAreaRight" fmla="*/ 443160 w 465840"/>
                <a:gd name="textAreaTop" fmla="*/ 22680 h 503280"/>
                <a:gd name="textAreaBottom" fmla="*/ 480600 h 503280"/>
              </a:gdLst>
              <a:ahLst/>
              <a:rect l="textAreaLeft" t="textAreaTop" r="textAreaRight" b="textAreaBottom"/>
              <a:pathLst>
                <a:path w="21600" h="23335">
                  <a:moveTo>
                    <a:pt x="3600" y="0"/>
                  </a:moveTo>
                  <a:arcTo wR="3600" hR="3600" stAng="16200000" swAng="-5400000"/>
                  <a:lnTo>
                    <a:pt x="0" y="19735"/>
                  </a:lnTo>
                  <a:arcTo wR="3600" hR="3600" stAng="10800000" swAng="-5400000"/>
                  <a:lnTo>
                    <a:pt x="18000" y="233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rot="20516400">
              <a:off x="819360" y="3639600"/>
              <a:ext cx="310680" cy="1886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0" y="1143000"/>
          <a:ext cx="3809880" cy="284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3809880" cy="28494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se aren’t new problems..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t they are on a larger sc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7280" y="2286000"/>
            <a:ext cx="426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gur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kag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 De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09720" y="4724280"/>
            <a:ext cx="323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48320" y="251460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87692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143000" y="3733920"/>
          <a:ext cx="3809880" cy="28512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733920"/>
                    <a:ext cx="3809880" cy="285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 Exampl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support Python and Jav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libraries must be shared (*.so) not statically linked (*.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hared libraries are problematic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support is platform/compiler depend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ing issues when interoperating with other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create valid shared library with uncatchable exce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Scope &amp; CC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43040" y="1587600"/>
            <a:ext cx="48006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provides language interoperability, not component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llaborate with CCA to add parallel distributed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lso provide tools (Quorum &amp; Alexandria) to facilitate component development and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572000"/>
            <a:ext cx="3581640" cy="106668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s &amp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638680"/>
            <a:ext cx="3581640" cy="53352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3581640" cy="99072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Complia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90920"/>
            <a:ext cx="3581640" cy="99036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fecdfe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581280"/>
            <a:ext cx="358164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143000" y="3657600"/>
            <a:ext cx="25146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Configuration/Bui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NU Mak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uild Make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hared libra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stom tes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’s own build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’s built-in (broken) ma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s to autoconf, automake &amp; libtoo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ts of h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990720"/>
            <a:ext cx="8915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685800"/>
          <a:ext cx="876312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76312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345760" y="0"/>
            <a:ext cx="377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rc-sun-solaris2.7-g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-639000" y="315036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6019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029200" y="228600"/>
            <a:ext cx="3962520" cy="5105160"/>
            <a:chOff x="5029200" y="228600"/>
            <a:chExt cx="3962520" cy="5105160"/>
          </a:xfrm>
        </p:grpSpPr>
        <p:sp>
          <p:nvSpPr>
            <p:cNvPr id="327" name=""/>
            <p:cNvSpPr/>
            <p:nvPr/>
          </p:nvSpPr>
          <p:spPr>
            <a:xfrm flipV="1">
              <a:off x="6934320" y="380520"/>
              <a:ext cx="0" cy="4953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34320" y="228600"/>
              <a:ext cx="2057400" cy="762120"/>
            </a:xfrm>
            <a:prstGeom prst="rightArrow">
              <a:avLst>
                <a:gd name="adj1" fmla="val 66963"/>
                <a:gd name="adj2" fmla="val 69214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5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29200" y="762120"/>
              <a:ext cx="1905120" cy="838080"/>
            </a:xfrm>
            <a:prstGeom prst="leftArrow">
              <a:avLst>
                <a:gd name="adj1" fmla="val 57287"/>
                <a:gd name="adj2" fmla="val 5820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4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523880" y="2763000"/>
            <a:ext cx="541080" cy="2646720"/>
            <a:chOff x="1523880" y="2763000"/>
            <a:chExt cx="541080" cy="2646720"/>
          </a:xfrm>
        </p:grpSpPr>
        <p:sp>
          <p:nvSpPr>
            <p:cNvPr id="331" name=""/>
            <p:cNvSpPr/>
            <p:nvPr/>
          </p:nvSpPr>
          <p:spPr>
            <a:xfrm>
              <a:off x="1523880" y="4965840"/>
              <a:ext cx="460440" cy="147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8432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2388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6200000">
              <a:off x="707040" y="3600360"/>
              <a:ext cx="219528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OR Rewr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378080" y="1219320"/>
            <a:ext cx="6953040" cy="4114800"/>
            <a:chOff x="1378080" y="1219320"/>
            <a:chExt cx="6953040" cy="4114800"/>
          </a:xfrm>
        </p:grpSpPr>
        <p:sp>
          <p:nvSpPr>
            <p:cNvPr id="336" name=""/>
            <p:cNvSpPr/>
            <p:nvPr/>
          </p:nvSpPr>
          <p:spPr>
            <a:xfrm>
              <a:off x="1378080" y="1219320"/>
              <a:ext cx="6775200" cy="106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nfigure/Build/Repository faults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ot software failures!!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5120" y="2209680"/>
              <a:ext cx="304560" cy="3048120"/>
            </a:xfrm>
            <a:custGeom>
              <a:avLst/>
              <a:gdLst/>
              <a:ahLst/>
              <a:rect l="l" t="t" r="r" b="b"/>
              <a:pathLst>
                <a:path w="192" h="1920">
                  <a:moveTo>
                    <a:pt x="0" y="0"/>
                  </a:moveTo>
                  <a:cubicBezTo>
                    <a:pt x="8" y="536"/>
                    <a:pt x="16" y="1072"/>
                    <a:pt x="48" y="1392"/>
                  </a:cubicBezTo>
                  <a:cubicBezTo>
                    <a:pt x="80" y="1712"/>
                    <a:pt x="136" y="1816"/>
                    <a:pt x="192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33720" y="2209680"/>
              <a:ext cx="304560" cy="2971800"/>
            </a:xfrm>
            <a:custGeom>
              <a:avLst/>
              <a:gdLst/>
              <a:ahLst/>
              <a:rect l="l" t="t" r="r" b="b"/>
              <a:pathLst>
                <a:path w="192" h="1872">
                  <a:moveTo>
                    <a:pt x="0" y="0"/>
                  </a:moveTo>
                  <a:cubicBezTo>
                    <a:pt x="32" y="420"/>
                    <a:pt x="64" y="840"/>
                    <a:pt x="96" y="1152"/>
                  </a:cubicBezTo>
                  <a:cubicBezTo>
                    <a:pt x="128" y="1464"/>
                    <a:pt x="160" y="1668"/>
                    <a:pt x="192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2209680"/>
              <a:ext cx="177840" cy="2667240"/>
            </a:xfrm>
            <a:custGeom>
              <a:avLst/>
              <a:gdLst/>
              <a:ahLst/>
              <a:rect l="l" t="t" r="r" b="b"/>
              <a:pathLst>
                <a:path w="112" h="1680">
                  <a:moveTo>
                    <a:pt x="0" y="0"/>
                  </a:moveTo>
                  <a:cubicBezTo>
                    <a:pt x="40" y="364"/>
                    <a:pt x="80" y="728"/>
                    <a:pt x="96" y="1008"/>
                  </a:cubicBezTo>
                  <a:cubicBezTo>
                    <a:pt x="112" y="1288"/>
                    <a:pt x="104" y="1484"/>
                    <a:pt x="96" y="16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3200" y="2209680"/>
              <a:ext cx="228600" cy="2286000"/>
            </a:xfrm>
            <a:custGeom>
              <a:avLst/>
              <a:gdLst/>
              <a:ahLst/>
              <a:rect l="l" t="t" r="r" b="b"/>
              <a:pathLst>
                <a:path w="144" h="1440">
                  <a:moveTo>
                    <a:pt x="0" y="0"/>
                  </a:moveTo>
                  <a:cubicBezTo>
                    <a:pt x="36" y="192"/>
                    <a:pt x="72" y="384"/>
                    <a:pt x="96" y="624"/>
                  </a:cubicBezTo>
                  <a:cubicBezTo>
                    <a:pt x="120" y="864"/>
                    <a:pt x="132" y="1152"/>
                    <a:pt x="144" y="14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8120" y="2286000"/>
              <a:ext cx="164880" cy="1905120"/>
            </a:xfrm>
            <a:custGeom>
              <a:avLst/>
              <a:gdLst/>
              <a:ahLst/>
              <a:rect l="l" t="t" r="r" b="b"/>
              <a:pathLst>
                <a:path w="104" h="1200">
                  <a:moveTo>
                    <a:pt x="0" y="0"/>
                  </a:moveTo>
                  <a:cubicBezTo>
                    <a:pt x="44" y="212"/>
                    <a:pt x="88" y="424"/>
                    <a:pt x="96" y="624"/>
                  </a:cubicBezTo>
                  <a:cubicBezTo>
                    <a:pt x="104" y="824"/>
                    <a:pt x="76" y="1012"/>
                    <a:pt x="48" y="12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920" y="2286000"/>
              <a:ext cx="152280" cy="2971800"/>
            </a:xfrm>
            <a:custGeom>
              <a:avLst/>
              <a:gdLst/>
              <a:ahLst/>
              <a:rect l="l" t="t" r="r" b="b"/>
              <a:pathLst>
                <a:path w="96" h="1872">
                  <a:moveTo>
                    <a:pt x="0" y="0"/>
                  </a:moveTo>
                  <a:cubicBezTo>
                    <a:pt x="48" y="252"/>
                    <a:pt x="96" y="504"/>
                    <a:pt x="96" y="816"/>
                  </a:cubicBezTo>
                  <a:cubicBezTo>
                    <a:pt x="96" y="1128"/>
                    <a:pt x="48" y="1500"/>
                    <a:pt x="0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2286000"/>
              <a:ext cx="228600" cy="3048120"/>
            </a:xfrm>
            <a:custGeom>
              <a:avLst/>
              <a:gdLst/>
              <a:ahLst/>
              <a:rect l="l" t="t" r="r" b="b"/>
              <a:pathLst>
                <a:path w="144" h="1920">
                  <a:moveTo>
                    <a:pt x="0" y="0"/>
                  </a:moveTo>
                  <a:cubicBezTo>
                    <a:pt x="72" y="320"/>
                    <a:pt x="144" y="640"/>
                    <a:pt x="144" y="960"/>
                  </a:cubicBezTo>
                  <a:cubicBezTo>
                    <a:pt x="144" y="1280"/>
                    <a:pt x="72" y="1600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38480" y="2209680"/>
              <a:ext cx="317520" cy="3048120"/>
            </a:xfrm>
            <a:custGeom>
              <a:avLst/>
              <a:gdLst/>
              <a:ahLst/>
              <a:rect l="l" t="t" r="r" b="b"/>
              <a:pathLst>
                <a:path w="200" h="1920">
                  <a:moveTo>
                    <a:pt x="48" y="0"/>
                  </a:moveTo>
                  <a:cubicBezTo>
                    <a:pt x="124" y="344"/>
                    <a:pt x="200" y="688"/>
                    <a:pt x="192" y="1008"/>
                  </a:cubicBezTo>
                  <a:cubicBezTo>
                    <a:pt x="184" y="1328"/>
                    <a:pt x="92" y="1624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59400" y="2209680"/>
              <a:ext cx="88920" cy="2819520"/>
            </a:xfrm>
            <a:custGeom>
              <a:avLst/>
              <a:gdLst/>
              <a:ahLst/>
              <a:rect l="l" t="t" r="r" b="b"/>
              <a:pathLst>
                <a:path w="56" h="1776">
                  <a:moveTo>
                    <a:pt x="8" y="0"/>
                  </a:moveTo>
                  <a:cubicBezTo>
                    <a:pt x="4" y="356"/>
                    <a:pt x="0" y="712"/>
                    <a:pt x="8" y="1008"/>
                  </a:cubicBezTo>
                  <a:cubicBezTo>
                    <a:pt x="16" y="1304"/>
                    <a:pt x="36" y="1540"/>
                    <a:pt x="56" y="177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0600" y="2286000"/>
              <a:ext cx="165240" cy="2438280"/>
            </a:xfrm>
            <a:custGeom>
              <a:avLst/>
              <a:gdLst/>
              <a:ahLst/>
              <a:rect l="l" t="t" r="r" b="b"/>
              <a:pathLst>
                <a:path w="104" h="1536">
                  <a:moveTo>
                    <a:pt x="0" y="0"/>
                  </a:moveTo>
                  <a:cubicBezTo>
                    <a:pt x="44" y="256"/>
                    <a:pt x="88" y="512"/>
                    <a:pt x="96" y="768"/>
                  </a:cubicBezTo>
                  <a:cubicBezTo>
                    <a:pt x="104" y="1024"/>
                    <a:pt x="76" y="1280"/>
                    <a:pt x="48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91520" y="2133720"/>
              <a:ext cx="177840" cy="2438280"/>
            </a:xfrm>
            <a:custGeom>
              <a:avLst/>
              <a:gdLst/>
              <a:ahLst/>
              <a:rect l="l" t="t" r="r" b="b"/>
              <a:pathLst>
                <a:path w="112" h="1536">
                  <a:moveTo>
                    <a:pt x="0" y="0"/>
                  </a:moveTo>
                  <a:cubicBezTo>
                    <a:pt x="40" y="88"/>
                    <a:pt x="80" y="176"/>
                    <a:pt x="96" y="432"/>
                  </a:cubicBezTo>
                  <a:cubicBezTo>
                    <a:pt x="112" y="688"/>
                    <a:pt x="104" y="1112"/>
                    <a:pt x="96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20120" y="2209680"/>
              <a:ext cx="164880" cy="2590920"/>
            </a:xfrm>
            <a:custGeom>
              <a:avLst/>
              <a:gdLst/>
              <a:ahLst/>
              <a:rect l="l" t="t" r="r" b="b"/>
              <a:pathLst>
                <a:path w="104" h="1632">
                  <a:moveTo>
                    <a:pt x="0" y="0"/>
                  </a:moveTo>
                  <a:cubicBezTo>
                    <a:pt x="44" y="104"/>
                    <a:pt x="88" y="208"/>
                    <a:pt x="96" y="480"/>
                  </a:cubicBezTo>
                  <a:cubicBezTo>
                    <a:pt x="104" y="752"/>
                    <a:pt x="76" y="1192"/>
                    <a:pt x="48" y="16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0120" y="2133720"/>
              <a:ext cx="266760" cy="2743200"/>
            </a:xfrm>
            <a:custGeom>
              <a:avLst/>
              <a:gdLst/>
              <a:ahLst/>
              <a:rect l="l" t="t" r="r" b="b"/>
              <a:pathLst>
                <a:path w="168" h="1728">
                  <a:moveTo>
                    <a:pt x="0" y="0"/>
                  </a:moveTo>
                  <a:cubicBezTo>
                    <a:pt x="60" y="288"/>
                    <a:pt x="120" y="576"/>
                    <a:pt x="144" y="864"/>
                  </a:cubicBezTo>
                  <a:cubicBezTo>
                    <a:pt x="168" y="1152"/>
                    <a:pt x="156" y="1440"/>
                    <a:pt x="144" y="17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96080" y="2209680"/>
              <a:ext cx="355680" cy="2895840"/>
            </a:xfrm>
            <a:custGeom>
              <a:avLst/>
              <a:gdLst/>
              <a:ahLst/>
              <a:rect l="l" t="t" r="r" b="b"/>
              <a:pathLst>
                <a:path w="224" h="1824">
                  <a:moveTo>
                    <a:pt x="0" y="0"/>
                  </a:moveTo>
                  <a:cubicBezTo>
                    <a:pt x="80" y="256"/>
                    <a:pt x="160" y="512"/>
                    <a:pt x="192" y="816"/>
                  </a:cubicBezTo>
                  <a:cubicBezTo>
                    <a:pt x="224" y="1120"/>
                    <a:pt x="208" y="1472"/>
                    <a:pt x="192" y="18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43800" y="1981080"/>
              <a:ext cx="622440" cy="3200400"/>
            </a:xfrm>
            <a:custGeom>
              <a:avLst/>
              <a:gdLst/>
              <a:ahLst/>
              <a:rect l="l" t="t" r="r" b="b"/>
              <a:pathLst>
                <a:path w="392" h="2016">
                  <a:moveTo>
                    <a:pt x="0" y="0"/>
                  </a:moveTo>
                  <a:cubicBezTo>
                    <a:pt x="140" y="192"/>
                    <a:pt x="280" y="384"/>
                    <a:pt x="336" y="720"/>
                  </a:cubicBezTo>
                  <a:cubicBezTo>
                    <a:pt x="392" y="1056"/>
                    <a:pt x="364" y="1536"/>
                    <a:pt x="336" y="201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20120" y="1968480"/>
              <a:ext cx="711000" cy="3289320"/>
            </a:xfrm>
            <a:custGeom>
              <a:avLst/>
              <a:gdLst/>
              <a:ahLst/>
              <a:rect l="l" t="t" r="r" b="b"/>
              <a:pathLst>
                <a:path w="448" h="2072">
                  <a:moveTo>
                    <a:pt x="0" y="8"/>
                  </a:moveTo>
                  <a:cubicBezTo>
                    <a:pt x="160" y="4"/>
                    <a:pt x="320" y="0"/>
                    <a:pt x="384" y="344"/>
                  </a:cubicBezTo>
                  <a:cubicBezTo>
                    <a:pt x="448" y="688"/>
                    <a:pt x="416" y="1380"/>
                    <a:pt x="384" y="20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s affect the User too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18680" y="1447920"/>
            <a:ext cx="8318520" cy="52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a user get and install “language interoperable” softwar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: if supplied by develop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“configure; make install”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link into applica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ny C++ code, must use C++ lin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C++ to u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has no std binary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ux of the probl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’re building 21st century technolog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 using 30 year old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5181480"/>
            <a:ext cx="15242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5791320"/>
            <a:ext cx="8001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rne 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7560" y="4572000"/>
            <a:ext cx="291312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(M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63680" y="3962520"/>
            <a:ext cx="32745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 (pe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23160" y="3352680"/>
            <a:ext cx="31158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(perl/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275360" y="2133720"/>
            <a:ext cx="4587840" cy="581400"/>
            <a:chOff x="4275360" y="2133720"/>
            <a:chExt cx="4587840" cy="581400"/>
          </a:xfrm>
        </p:grpSpPr>
        <p:sp>
          <p:nvSpPr>
            <p:cNvPr id="363" name=""/>
            <p:cNvSpPr/>
            <p:nvPr/>
          </p:nvSpPr>
          <p:spPr>
            <a:xfrm>
              <a:off x="7780320" y="2133720"/>
              <a:ext cx="108288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8680" y="2133720"/>
              <a:ext cx="155844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65360" y="2133720"/>
              <a:ext cx="8802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75360" y="2133720"/>
              <a:ext cx="9504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399080" y="2743200"/>
            <a:ext cx="4748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7040" y="3352680"/>
            <a:ext cx="24393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74280" y="3962520"/>
            <a:ext cx="1557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8267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config, build, package, test and management syst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ake insid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ave action create many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s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real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 all aspects in on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T BE OPEN SOU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the mean tim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works on other platfor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st not automated config/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code generator (precompil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I C runtime library (no proble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’s tests are (necessarily) pathological worst-case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didn’t create these proble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just exercise them aggressive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Babel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Provide More Build Hel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.make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lists code genera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add additional flags, macros, et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used for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generate artifacts useful for develop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 flipV="1">
            <a:off x="2666880" y="1904760"/>
            <a:ext cx="3962520" cy="373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3429000"/>
            <a:ext cx="2209680" cy="1295280"/>
          </a:xfrm>
          <a:prstGeom prst="cloudCallout">
            <a:avLst>
              <a:gd name="adj1" fmla="val -310129"/>
              <a:gd name="adj2" fmla="val -23848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2514600"/>
            <a:ext cx="2438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rther Future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Do Distributed Comp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4114800"/>
            <a:ext cx="1828800" cy="1828800"/>
            <a:chOff x="838080" y="4114800"/>
            <a:chExt cx="1828800" cy="1828800"/>
          </a:xfrm>
        </p:grpSpPr>
        <p:sp>
          <p:nvSpPr>
            <p:cNvPr id="382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510552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629400" y="1600200"/>
            <a:ext cx="1828800" cy="1828800"/>
            <a:chOff x="6629400" y="1600200"/>
            <a:chExt cx="1828800" cy="1828800"/>
          </a:xfrm>
        </p:grpSpPr>
        <p:sp>
          <p:nvSpPr>
            <p:cNvPr id="385" name=""/>
            <p:cNvSpPr/>
            <p:nvPr/>
          </p:nvSpPr>
          <p:spPr>
            <a:xfrm>
              <a:off x="6629400" y="1600200"/>
              <a:ext cx="1828800" cy="914400"/>
            </a:xfrm>
            <a:prstGeom prst="downArrowCallout">
              <a:avLst>
                <a:gd name="adj1" fmla="val 30910"/>
                <a:gd name="adj2" fmla="val 42009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838080" y="2590920"/>
            <a:ext cx="7620120" cy="2361960"/>
            <a:chOff x="838080" y="2590920"/>
            <a:chExt cx="7620120" cy="2361960"/>
          </a:xfrm>
        </p:grpSpPr>
        <p:sp>
          <p:nvSpPr>
            <p:cNvPr id="388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940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940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62940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505320" y="632448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sing Remar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Beta 0.5 is releas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enables language interoperability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 C, C++, F77, and Pyth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a uniform object-model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in non-OO languag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ploying &amp; Installing Language Interoperable Code in Gener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still very h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broken every tool we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announce@llnl.gov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user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m Epperly, Scott Koh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ary Kumfert, &amp; Steve Smi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6248520"/>
            <a:ext cx="1676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ease Announce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8680" y="4343040"/>
            <a:ext cx="8318520" cy="23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, C++, F77, Python(clie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819520" y="1523880"/>
            <a:ext cx="4038480" cy="147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971800" y="2590920"/>
            <a:ext cx="3429000" cy="14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ETA  0.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PC and Compon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 REALISTICALLY b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HPC Components have huge (and unique) hurdl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Archite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OS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of SPMD and Dist. Com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chaic Pkg/Devel/Config/Build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CS trained (or interested) us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 HPC community reall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ord yet another compiler such 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language interoperability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is the Java subset of C++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adequate as an HPC IDL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“Java subset of C++”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it to bind to other languages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inheritance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exception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role of traditional (parallel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in component technology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pefully, they’re replaced b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der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allel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be the configuration issu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components...to be portable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t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ck of Configuration, Packaging, &amp; Deployment tool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Achilles heel fo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day-to-day pain in Babel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1 cause for failure in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anyone actually make the effort 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ize their applic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t will be mess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orts to Babelize at LLNL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 - want OOP in ANSI C &amp; automatic F77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PS - want scripting interface for laser plasma physic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- framework used in AL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components be viewed a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ly a library/runtime develop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.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used components in this PowerPoint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can use components without knowing they’re using th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harder to achieve in UNIX than other platfor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the University of California,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5080" y="650880"/>
            <a:ext cx="350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46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48880" y="60948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minous Foreshadow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 are to OO wha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O is to structured programm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subrout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Compon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Much Harder 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times hard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14400" y="2286000"/>
          <a:ext cx="3646440" cy="2727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4876920" y="2286000"/>
          <a:ext cx="3646440" cy="2727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5181120"/>
            <a:ext cx="8686800" cy="14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% of my coding time is spent on portability/configure/build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-0.5.0.tar.gz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code genera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runtim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ANSI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s (minima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s, talks, javadoc ht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101 tuto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800600" y="99072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Develo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s a SIDL sp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babel to generate IORs, Skels, &amp; Impls in language of cho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s implementation in Impl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s it all into a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s SIDL &amp; library to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77320" y="26676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36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134040" y="228600"/>
            <a:ext cx="1942920" cy="838080"/>
            <a:chOff x="6134040" y="228600"/>
            <a:chExt cx="1942920" cy="838080"/>
          </a:xfrm>
        </p:grpSpPr>
        <p:sp>
          <p:nvSpPr>
            <p:cNvPr id="432" name=""/>
            <p:cNvSpPr/>
            <p:nvPr/>
          </p:nvSpPr>
          <p:spPr>
            <a:xfrm>
              <a:off x="613404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29" idx="2"/>
              <a:endCxn id="432" idx="3"/>
            </p:cNvCxnSpPr>
            <p:nvPr/>
          </p:nvCxnSpPr>
          <p:spPr>
            <a:xfrm flipH="1">
              <a:off x="6895440" y="647280"/>
              <a:ext cx="1181880" cy="1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4" name=""/>
          <p:cNvGrpSpPr/>
          <p:nvPr/>
        </p:nvGrpSpPr>
        <p:grpSpPr>
          <a:xfrm>
            <a:off x="4952880" y="1066680"/>
            <a:ext cx="3200400" cy="2895840"/>
            <a:chOff x="4952880" y="1066680"/>
            <a:chExt cx="3200400" cy="2895840"/>
          </a:xfrm>
        </p:grpSpPr>
        <p:sp>
          <p:nvSpPr>
            <p:cNvPr id="435" name=""/>
            <p:cNvSpPr/>
            <p:nvPr/>
          </p:nvSpPr>
          <p:spPr>
            <a:xfrm>
              <a:off x="4952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05520" y="30481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5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48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38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91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91320" y="1523880"/>
              <a:ext cx="144756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2" name=""/>
            <p:cNvCxnSpPr>
              <a:stCxn id="432" idx="2"/>
              <a:endCxn id="441" idx="0"/>
            </p:cNvCxnSpPr>
            <p:nvPr/>
          </p:nvCxnSpPr>
          <p:spPr>
            <a:xfrm>
              <a:off x="6514920" y="106668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41" idx="4"/>
              <a:endCxn id="437" idx="0"/>
            </p:cNvCxnSpPr>
            <p:nvPr/>
          </p:nvCxnSpPr>
          <p:spPr>
            <a:xfrm flipH="1">
              <a:off x="6476760" y="2209680"/>
              <a:ext cx="388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41" idx="5"/>
              <a:endCxn id="439" idx="0"/>
            </p:cNvCxnSpPr>
            <p:nvPr/>
          </p:nvCxnSpPr>
          <p:spPr>
            <a:xfrm>
              <a:off x="7026120" y="2109600"/>
              <a:ext cx="59472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5" name=""/>
            <p:cNvCxnSpPr>
              <a:stCxn id="441" idx="3"/>
              <a:endCxn id="435" idx="0"/>
            </p:cNvCxnSpPr>
            <p:nvPr/>
          </p:nvCxnSpPr>
          <p:spPr>
            <a:xfrm flipH="1">
              <a:off x="5333400" y="2109600"/>
              <a:ext cx="67068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46" name=""/>
          <p:cNvCxnSpPr>
            <a:stCxn id="429" idx="3"/>
            <a:endCxn id="439" idx="0"/>
          </p:cNvCxnSpPr>
          <p:nvPr/>
        </p:nvCxnSpPr>
        <p:spPr>
          <a:xfrm flipH="1">
            <a:off x="7619760" y="917280"/>
            <a:ext cx="568800" cy="1749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47" name=""/>
          <p:cNvGrpSpPr/>
          <p:nvPr/>
        </p:nvGrpSpPr>
        <p:grpSpPr>
          <a:xfrm>
            <a:off x="5486400" y="3885840"/>
            <a:ext cx="2286000" cy="2743560"/>
            <a:chOff x="5486400" y="3885840"/>
            <a:chExt cx="2286000" cy="2743560"/>
          </a:xfrm>
        </p:grpSpPr>
        <p:sp>
          <p:nvSpPr>
            <p:cNvPr id="448" name=""/>
            <p:cNvSpPr/>
            <p:nvPr/>
          </p:nvSpPr>
          <p:spPr>
            <a:xfrm>
              <a:off x="5715000" y="4495680"/>
              <a:ext cx="1828800" cy="83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9" name=""/>
            <p:cNvCxnSpPr>
              <a:stCxn id="438" idx="2"/>
              <a:endCxn id="448" idx="0"/>
            </p:cNvCxnSpPr>
            <p:nvPr/>
          </p:nvCxnSpPr>
          <p:spPr>
            <a:xfrm>
              <a:off x="6629040" y="3962160"/>
              <a:ext cx="1080" cy="5338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"/>
            <p:cNvCxnSpPr>
              <a:stCxn id="440" idx="2"/>
              <a:endCxn id="448" idx="7"/>
            </p:cNvCxnSpPr>
            <p:nvPr/>
          </p:nvCxnSpPr>
          <p:spPr>
            <a:xfrm flipH="1">
              <a:off x="7275240" y="3962160"/>
              <a:ext cx="497520" cy="6562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1" name=""/>
            <p:cNvCxnSpPr>
              <a:stCxn id="436" idx="2"/>
              <a:endCxn id="448" idx="1"/>
            </p:cNvCxnSpPr>
            <p:nvPr/>
          </p:nvCxnSpPr>
          <p:spPr>
            <a:xfrm>
              <a:off x="5486400" y="3885840"/>
              <a:ext cx="497520" cy="7326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"/>
            <p:cNvCxnSpPr>
              <a:stCxn id="448" idx="4"/>
              <a:endCxn id="453" idx="0"/>
            </p:cNvCxnSpPr>
            <p:nvPr/>
          </p:nvCxnSpPr>
          <p:spPr>
            <a:xfrm>
              <a:off x="6629040" y="533412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600200" y="0"/>
            <a:ext cx="5791320" cy="6858000"/>
            <a:chOff x="1600200" y="0"/>
            <a:chExt cx="5791320" cy="6858000"/>
          </a:xfrm>
        </p:grpSpPr>
        <p:sp>
          <p:nvSpPr>
            <p:cNvPr id="455" name=""/>
            <p:cNvSpPr/>
            <p:nvPr/>
          </p:nvSpPr>
          <p:spPr>
            <a:xfrm>
              <a:off x="5791320" y="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556272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7" name=""/>
            <p:cNvCxnSpPr>
              <a:stCxn id="456" idx="1"/>
              <a:endCxn id="458" idx="3"/>
            </p:cNvCxnSpPr>
            <p:nvPr/>
          </p:nvCxnSpPr>
          <p:spPr>
            <a:xfrm rot="5400000">
              <a:off x="5214600" y="4860000"/>
              <a:ext cx="154440" cy="1859760"/>
            </a:xfrm>
            <a:prstGeom prst="curvedConnector5">
              <a:avLst>
                <a:gd name="adj1" fmla="val -246261"/>
                <a:gd name="adj2" fmla="val 27957"/>
                <a:gd name="adj3" fmla="val -24626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458" name=""/>
            <p:cNvSpPr/>
            <p:nvPr/>
          </p:nvSpPr>
          <p:spPr>
            <a:xfrm>
              <a:off x="1600200" y="563868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67080" y="762120"/>
              <a:ext cx="1524240" cy="5029200"/>
            </a:xfrm>
            <a:custGeom>
              <a:avLst/>
              <a:gdLst/>
              <a:ahLst/>
              <a:rect l="l" t="t" r="r" b="b"/>
              <a:pathLst>
                <a:path w="960" h="3168">
                  <a:moveTo>
                    <a:pt x="960" y="0"/>
                  </a:moveTo>
                  <a:cubicBezTo>
                    <a:pt x="624" y="384"/>
                    <a:pt x="288" y="768"/>
                    <a:pt x="144" y="1296"/>
                  </a:cubicBezTo>
                  <a:cubicBezTo>
                    <a:pt x="0" y="1824"/>
                    <a:pt x="48" y="2496"/>
                    <a:pt x="96" y="3168"/>
                  </a:cubicBezTo>
                </a:path>
              </a:pathLst>
            </a:custGeom>
            <a:noFill/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095880" y="228600"/>
            <a:ext cx="914400" cy="6400800"/>
            <a:chOff x="6095880" y="228600"/>
            <a:chExt cx="914400" cy="6400800"/>
          </a:xfrm>
        </p:grpSpPr>
        <p:sp>
          <p:nvSpPr>
            <p:cNvPr id="461" name=""/>
            <p:cNvSpPr/>
            <p:nvPr/>
          </p:nvSpPr>
          <p:spPr>
            <a:xfrm>
              <a:off x="609588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419720" y="4419720"/>
            <a:ext cx="30456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83808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es repository for appropriate compon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application language,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the appropriate library and SIDL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babel to generates Stubs and I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s application using Stub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s and links it all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248520" y="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48520" y="1295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257800" y="761760"/>
            <a:ext cx="2743200" cy="914760"/>
            <a:chOff x="5257800" y="761760"/>
            <a:chExt cx="2743200" cy="914760"/>
          </a:xfrm>
        </p:grpSpPr>
        <p:sp>
          <p:nvSpPr>
            <p:cNvPr id="470" name=""/>
            <p:cNvSpPr/>
            <p:nvPr/>
          </p:nvSpPr>
          <p:spPr>
            <a:xfrm>
              <a:off x="5257800" y="121932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7" idx="4"/>
              <a:endCxn id="470" idx="0"/>
            </p:cNvCxnSpPr>
            <p:nvPr/>
          </p:nvCxnSpPr>
          <p:spPr>
            <a:xfrm>
              <a:off x="6629040" y="761760"/>
              <a:ext cx="1080" cy="4388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2" name=""/>
          <p:cNvGrpSpPr/>
          <p:nvPr/>
        </p:nvGrpSpPr>
        <p:grpSpPr>
          <a:xfrm>
            <a:off x="6629400" y="1695600"/>
            <a:ext cx="2133720" cy="1809720"/>
            <a:chOff x="6629400" y="1695600"/>
            <a:chExt cx="2133720" cy="1809720"/>
          </a:xfrm>
        </p:grpSpPr>
        <p:sp>
          <p:nvSpPr>
            <p:cNvPr id="473" name=""/>
            <p:cNvSpPr/>
            <p:nvPr/>
          </p:nvSpPr>
          <p:spPr>
            <a:xfrm>
              <a:off x="70866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010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"/>
            <p:cNvCxnSpPr>
              <a:stCxn id="470" idx="2"/>
              <a:endCxn id="473" idx="0"/>
            </p:cNvCxnSpPr>
            <p:nvPr/>
          </p:nvCxnSpPr>
          <p:spPr>
            <a:xfrm>
              <a:off x="6629400" y="1695600"/>
              <a:ext cx="8388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6" name=""/>
            <p:cNvCxnSpPr>
              <a:stCxn id="470" idx="2"/>
              <a:endCxn id="474" idx="0"/>
            </p:cNvCxnSpPr>
            <p:nvPr/>
          </p:nvCxnSpPr>
          <p:spPr>
            <a:xfrm>
              <a:off x="6629400" y="1695600"/>
              <a:ext cx="17532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7" name=""/>
          <p:cNvGrpSpPr/>
          <p:nvPr/>
        </p:nvGrpSpPr>
        <p:grpSpPr>
          <a:xfrm>
            <a:off x="4800600" y="1695240"/>
            <a:ext cx="2285640" cy="1391040"/>
            <a:chOff x="4800600" y="1695240"/>
            <a:chExt cx="2285640" cy="1391040"/>
          </a:xfrm>
        </p:grpSpPr>
        <p:sp>
          <p:nvSpPr>
            <p:cNvPr id="478" name=""/>
            <p:cNvSpPr/>
            <p:nvPr/>
          </p:nvSpPr>
          <p:spPr>
            <a:xfrm>
              <a:off x="4800600" y="2057400"/>
              <a:ext cx="144792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" name=""/>
            <p:cNvCxnSpPr>
              <a:stCxn id="470" idx="2"/>
              <a:endCxn id="478" idx="0"/>
            </p:cNvCxnSpPr>
            <p:nvPr/>
          </p:nvCxnSpPr>
          <p:spPr>
            <a:xfrm flipH="1">
              <a:off x="5523840" y="1695240"/>
              <a:ext cx="1105560" cy="362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0" name=""/>
            <p:cNvCxnSpPr>
              <a:stCxn id="473" idx="1"/>
              <a:endCxn id="478" idx="7"/>
            </p:cNvCxnSpPr>
            <p:nvPr/>
          </p:nvCxnSpPr>
          <p:spPr>
            <a:xfrm rot="10800000">
              <a:off x="6035040" y="2156760"/>
              <a:ext cx="1051560" cy="929520"/>
            </a:xfrm>
            <a:prstGeom prst="curvedConnector5">
              <a:avLst>
                <a:gd name="adj1" fmla="val 39863"/>
                <a:gd name="adj2" fmla="val 55792"/>
                <a:gd name="adj3" fmla="val 39863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1" name=""/>
          <p:cNvGrpSpPr/>
          <p:nvPr/>
        </p:nvGrpSpPr>
        <p:grpSpPr>
          <a:xfrm>
            <a:off x="4190760" y="380880"/>
            <a:ext cx="2057760" cy="4953240"/>
            <a:chOff x="4190760" y="380880"/>
            <a:chExt cx="2057760" cy="4953240"/>
          </a:xfrm>
        </p:grpSpPr>
        <p:sp>
          <p:nvSpPr>
            <p:cNvPr id="482" name=""/>
            <p:cNvSpPr/>
            <p:nvPr/>
          </p:nvSpPr>
          <p:spPr>
            <a:xfrm>
              <a:off x="4267080" y="44956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n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3" name=""/>
            <p:cNvCxnSpPr>
              <a:stCxn id="467" idx="2"/>
              <a:endCxn id="463" idx="2"/>
            </p:cNvCxnSpPr>
            <p:nvPr/>
          </p:nvCxnSpPr>
          <p:spPr>
            <a:xfrm flipV="1" rot="10800000">
              <a:off x="4419000" y="380520"/>
              <a:ext cx="1829520" cy="4191840"/>
            </a:xfrm>
            <a:prstGeom prst="curvedConnector5">
              <a:avLst>
                <a:gd name="adj1" fmla="val 112497"/>
                <a:gd name="adj2" fmla="val 49995"/>
                <a:gd name="adj3" fmla="val 112497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4" name=""/>
          <p:cNvGrpSpPr/>
          <p:nvPr/>
        </p:nvGrpSpPr>
        <p:grpSpPr>
          <a:xfrm>
            <a:off x="4724280" y="2743200"/>
            <a:ext cx="1752840" cy="1676520"/>
            <a:chOff x="4724280" y="2743200"/>
            <a:chExt cx="1752840" cy="1676520"/>
          </a:xfrm>
        </p:grpSpPr>
        <p:sp>
          <p:nvSpPr>
            <p:cNvPr id="485" name=""/>
            <p:cNvSpPr/>
            <p:nvPr/>
          </p:nvSpPr>
          <p:spPr>
            <a:xfrm>
              <a:off x="472428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6920" y="35812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1500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8" name=""/>
            <p:cNvCxnSpPr>
              <a:stCxn id="478" idx="4"/>
              <a:endCxn id="487" idx="0"/>
            </p:cNvCxnSpPr>
            <p:nvPr/>
          </p:nvCxnSpPr>
          <p:spPr>
            <a:xfrm>
              <a:off x="5524200" y="2743200"/>
              <a:ext cx="57204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9" name=""/>
            <p:cNvCxnSpPr>
              <a:stCxn id="478" idx="4"/>
              <a:endCxn id="485" idx="0"/>
            </p:cNvCxnSpPr>
            <p:nvPr/>
          </p:nvCxnSpPr>
          <p:spPr>
            <a:xfrm flipH="1">
              <a:off x="5105160" y="2743200"/>
              <a:ext cx="4197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0" name=""/>
          <p:cNvGrpSpPr/>
          <p:nvPr/>
        </p:nvGrpSpPr>
        <p:grpSpPr>
          <a:xfrm>
            <a:off x="5029200" y="3504960"/>
            <a:ext cx="3352680" cy="2972160"/>
            <a:chOff x="5029200" y="3504960"/>
            <a:chExt cx="3352680" cy="2972160"/>
          </a:xfrm>
        </p:grpSpPr>
        <p:sp>
          <p:nvSpPr>
            <p:cNvPr id="491" name=""/>
            <p:cNvSpPr/>
            <p:nvPr/>
          </p:nvSpPr>
          <p:spPr>
            <a:xfrm>
              <a:off x="5943600" y="4572000"/>
              <a:ext cx="182880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2" name=""/>
            <p:cNvCxnSpPr>
              <a:stCxn id="474" idx="2"/>
              <a:endCxn id="491" idx="7"/>
            </p:cNvCxnSpPr>
            <p:nvPr/>
          </p:nvCxnSpPr>
          <p:spPr>
            <a:xfrm flipH="1">
              <a:off x="7503840" y="3504960"/>
              <a:ext cx="878400" cy="11898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3" name=""/>
            <p:cNvCxnSpPr>
              <a:stCxn id="486" idx="2"/>
              <a:endCxn id="491" idx="1"/>
            </p:cNvCxnSpPr>
            <p:nvPr/>
          </p:nvCxnSpPr>
          <p:spPr>
            <a:xfrm>
              <a:off x="5257800" y="4419360"/>
              <a:ext cx="954720" cy="2754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4" name=""/>
            <p:cNvCxnSpPr>
              <a:stCxn id="487" idx="2"/>
              <a:endCxn id="491" idx="0"/>
            </p:cNvCxnSpPr>
            <p:nvPr/>
          </p:nvCxnSpPr>
          <p:spPr>
            <a:xfrm>
              <a:off x="6095520" y="4038480"/>
              <a:ext cx="762840" cy="5342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"/>
            <p:cNvCxnSpPr>
              <a:stCxn id="482" idx="3"/>
              <a:endCxn id="491" idx="2"/>
            </p:cNvCxnSpPr>
            <p:nvPr/>
          </p:nvCxnSpPr>
          <p:spPr>
            <a:xfrm>
              <a:off x="5029200" y="4914720"/>
              <a:ext cx="915120" cy="766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>
              <a:stCxn id="491" idx="4"/>
              <a:endCxn id="497" idx="0"/>
            </p:cNvCxnSpPr>
            <p:nvPr/>
          </p:nvCxnSpPr>
          <p:spPr>
            <a:xfrm>
              <a:off x="6857640" y="5409720"/>
              <a:ext cx="1080" cy="2293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7" name=""/>
            <p:cNvSpPr/>
            <p:nvPr/>
          </p:nvSpPr>
          <p:spPr>
            <a:xfrm>
              <a:off x="6477120" y="56386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9040" y="298440"/>
            <a:ext cx="82803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 Cod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7" idx="0"/>
            <a:endCxn id="76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7" idx="2"/>
            <a:endCxn id="81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7" idx="3"/>
            <a:endCxn id="80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85" name=""/>
          <p:cNvCxnSpPr>
            <a:stCxn id="76" idx="0"/>
            <a:endCxn id="78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79" idx="0"/>
            <a:endCxn id="78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81" idx="0"/>
            <a:endCxn id="76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80" idx="1"/>
            <a:endCxn id="76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0"/>
            <a:endCxn id="78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895480" y="4876920"/>
            <a:ext cx="3200400" cy="241200"/>
          </a:xfrm>
          <a:custGeom>
            <a:avLst/>
            <a:gdLst/>
            <a:ahLst/>
            <a:rect l="l" t="t" r="r" b="b"/>
            <a:pathLst>
              <a:path w="2016" h="152">
                <a:moveTo>
                  <a:pt x="0" y="48"/>
                </a:moveTo>
                <a:cubicBezTo>
                  <a:pt x="312" y="100"/>
                  <a:pt x="624" y="152"/>
                  <a:pt x="960" y="144"/>
                </a:cubicBezTo>
                <a:cubicBezTo>
                  <a:pt x="1296" y="136"/>
                  <a:pt x="1656" y="68"/>
                  <a:pt x="201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505320"/>
            <a:ext cx="3429000" cy="1218960"/>
          </a:xfrm>
          <a:custGeom>
            <a:avLst/>
            <a:gdLst/>
            <a:ahLst/>
            <a:rect l="l" t="t" r="r" b="b"/>
            <a:pathLst>
              <a:path w="2160" h="768">
                <a:moveTo>
                  <a:pt x="0" y="0"/>
                </a:moveTo>
                <a:cubicBezTo>
                  <a:pt x="444" y="56"/>
                  <a:pt x="888" y="112"/>
                  <a:pt x="1248" y="240"/>
                </a:cubicBezTo>
                <a:cubicBezTo>
                  <a:pt x="1608" y="368"/>
                  <a:pt x="1884" y="568"/>
                  <a:pt x="2160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87600"/>
            <a:ext cx="4121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ly Object Orien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87600"/>
            <a:ext cx="42670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I (fut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248520" y="3048120"/>
            <a:ext cx="1066680" cy="99036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8800" y="2133720"/>
            <a:ext cx="3276720" cy="3124080"/>
            <a:chOff x="1828800" y="2133720"/>
            <a:chExt cx="3276720" cy="3124080"/>
          </a:xfrm>
        </p:grpSpPr>
        <p:sp>
          <p:nvSpPr>
            <p:cNvPr id="111" name=""/>
            <p:cNvSpPr/>
            <p:nvPr/>
          </p:nvSpPr>
          <p:spPr>
            <a:xfrm>
              <a:off x="4038480" y="2133720"/>
              <a:ext cx="1067040" cy="990360"/>
            </a:xfrm>
            <a:custGeom>
              <a:avLst/>
              <a:gdLst>
                <a:gd name="textAreaLeft" fmla="*/ 243360 w 1067040"/>
                <a:gd name="textAreaRight" fmla="*/ 823680 w 106704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3048120"/>
              <a:ext cx="1066680" cy="99036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4267080"/>
              <a:ext cx="1066680" cy="99072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720"/>
                <a:gd name="textAreaBottom" fmla="*/ 764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114800" y="5486400"/>
            <a:ext cx="1066680" cy="990720"/>
          </a:xfrm>
          <a:prstGeom prst="noSmoking">
            <a:avLst>
              <a:gd name="adj" fmla="val 12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943600" y="4343400"/>
            <a:ext cx="2619360" cy="1693800"/>
            <a:chOff x="5943600" y="4343400"/>
            <a:chExt cx="2619360" cy="1693800"/>
          </a:xfrm>
        </p:grpSpPr>
        <p:grpSp>
          <p:nvGrpSpPr>
            <p:cNvPr id="116" name=""/>
            <p:cNvGrpSpPr/>
            <p:nvPr/>
          </p:nvGrpSpPr>
          <p:grpSpPr>
            <a:xfrm>
              <a:off x="5943600" y="4343400"/>
              <a:ext cx="1981080" cy="990720"/>
              <a:chOff x="5943600" y="4343400"/>
              <a:chExt cx="1981080" cy="990720"/>
            </a:xfrm>
          </p:grpSpPr>
          <p:sp>
            <p:nvSpPr>
              <p:cNvPr id="117" name=""/>
              <p:cNvSpPr/>
              <p:nvPr/>
            </p:nvSpPr>
            <p:spPr>
              <a:xfrm>
                <a:off x="5943600" y="4343400"/>
                <a:ext cx="1905120" cy="990720"/>
              </a:xfrm>
              <a:custGeom>
                <a:avLst/>
                <a:gdLst>
                  <a:gd name="textAreaLeft" fmla="*/ 434880 w 1905120"/>
                  <a:gd name="textAreaRight" fmla="*/ 1470240 w 1905120"/>
                  <a:gd name="textAreaTop" fmla="*/ 226080 h 990720"/>
                  <a:gd name="textAreaBottom" fmla="*/ 76464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34320" y="4343400"/>
                <a:ext cx="990360" cy="99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6438960" y="4152960"/>
                <a:ext cx="990720" cy="1371600"/>
              </a:xfrm>
              <a:prstGeom prst="blockArc">
                <a:avLst>
                  <a:gd name="adj1" fmla="val 10611920"/>
                  <a:gd name="adj2" fmla="val 188080"/>
                  <a:gd name="adj3" fmla="val 16139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6858000" y="4800600"/>
                <a:ext cx="457200" cy="38088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6858000" y="4952880"/>
              <a:ext cx="1704960" cy="108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Soon!!!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1880" y="1523880"/>
            <a:ext cx="471780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In This Rele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66720" y="1587600"/>
            <a:ext cx="48769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 Has Two Types of Custom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152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increase their user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learn S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Babel general and powerfu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4080" y="1587600"/>
            <a:ext cx="44895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solve their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never see SID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software that’s easy &amp; trustwort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1600" y="1474920"/>
            <a:ext cx="5720400" cy="642600"/>
            <a:chOff x="381600" y="1474920"/>
            <a:chExt cx="5720400" cy="642600"/>
          </a:xfrm>
        </p:grpSpPr>
        <p:sp>
          <p:nvSpPr>
            <p:cNvPr id="143" name=""/>
            <p:cNvSpPr/>
            <p:nvPr/>
          </p:nvSpPr>
          <p:spPr>
            <a:xfrm>
              <a:off x="381600" y="1474920"/>
              <a:ext cx="264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evelop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8680" y="1474920"/>
              <a:ext cx="145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Design Priorit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er/User dichotom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’s natural for each language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expose C array structs in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tyle would be SIDL::array&lt;T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572000"/>
            <a:ext cx="6933960" cy="222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mplate &l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&lt;item_t&gt; : public array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 array_t, item_t,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item_cxx_wrapper_t&gt;  {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SCCD User</cp:lastModifiedBy>
  <cp:lastPrinted>2001-07-19T22:31:50Z</cp:lastPrinted>
  <dcterms:modified xsi:type="dcterms:W3CDTF">2001-08-07T18:22:47Z</dcterms:modified>
  <cp:revision>69</cp:revision>
  <dc:subject/>
  <dc:title>ComponentsWorkshop</dc:title>
</cp:coreProperties>
</file>