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20004"/>
        <c:axId val="33485270"/>
      </c:barChart>
      <c:catAx>
        <c:axId val="50620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85270"/>
        <c:crosses val="autoZero"/>
        <c:auto val="1"/>
        <c:lblAlgn val="ctr"/>
        <c:lblOffset val="100"/>
        <c:noMultiLvlLbl val="0"/>
      </c:catAx>
      <c:valAx>
        <c:axId val="33485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20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712-4CAA-4A05-9160-90127365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C99-09BA-471A-960C-4F407DAF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943-4C3C-462A-8264-B0E95DB4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CD6-45C8-454D-89AC-9E876167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07E-2324-4E57-A928-478F04EE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A3D-658B-4C68-B7E9-DDEFDD0A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470-D828-4F6D-A608-2FDE7888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1C7-EB62-4931-A779-8FE9F0D0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501-FBD9-4110-9F43-4B0A390C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7FF-D31E-4FF0-9B30-15A02265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1EE-B300-4AC5-9787-54A1387C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97F-09D2-4E7D-90BB-5674AB6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9751E-774A-4AC7-B8FC-BF2A9B9905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