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78"/>
        <c:axId val="19562958"/>
      </c:barChart>
      <c:catAx>
        <c:axId val="726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2958"/>
        <c:crosses val="autoZero"/>
        <c:auto val="1"/>
        <c:lblAlgn val="ctr"/>
        <c:lblOffset val="100"/>
        <c:noMultiLvlLbl val="0"/>
      </c:catAx>
      <c:valAx>
        <c:axId val="19562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CEC-7952-47E2-AFB7-90EE911B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851-5B5A-4DAF-AA9A-7AD340F4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706-DCFB-41B1-9625-B525677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2C3-9C31-46D6-948B-35850E5A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733-D195-4A2B-815C-B21B521B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5C9-CF40-4430-91CB-044CE49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F99-ECAF-419D-A020-087C8FD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F9D-A5B7-4E4E-BBD3-6C63731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8E5-5B96-4C58-ADA1-C6DCADC8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078-91C8-4A31-ACF9-DC9BEA0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FC1-F51E-46D0-B4C7-ED37628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C4B-D016-4C60-8D78-3829CA2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DE8F-BCC5-41E5-A561-186B75727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