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75141"/>
        <c:axId val="89056597"/>
      </c:barChart>
      <c:catAx>
        <c:axId val="44575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6597"/>
        <c:crosses val="autoZero"/>
        <c:auto val="1"/>
        <c:lblAlgn val="ctr"/>
        <c:lblOffset val="100"/>
        <c:noMultiLvlLbl val="0"/>
      </c:catAx>
      <c:valAx>
        <c:axId val="89056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75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A18-3870-4223-9EAF-49CFCD47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43B-42CE-4278-9390-E0F35DAB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41F-172A-4F08-90E6-CE0B3F56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74D-3C84-47A6-A04E-BFC0C583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B90-DD96-4DAB-8543-D6AFA74B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A7C-38A5-4B2B-8D19-4F8581B4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CFA-8715-4E23-B0D2-7CEB348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CB8-ADFA-479B-9400-54508B10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FA8-7DBC-4F71-AF7D-D31864BA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940-E23D-4ADE-8F56-E6E29DF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CDB-FDAE-424F-BD92-6DE1900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289-EE2B-405E-8300-89555900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97782-E33B-44FD-8F89-342D13921F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