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73150"/>
        <c:axId val="69852332"/>
      </c:barChart>
      <c:catAx>
        <c:axId val="426731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52332"/>
        <c:crosses val="autoZero"/>
        <c:auto val="1"/>
        <c:lblAlgn val="ctr"/>
        <c:lblOffset val="100"/>
        <c:noMultiLvlLbl val="0"/>
      </c:catAx>
      <c:valAx>
        <c:axId val="69852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731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92C-79D3-499A-B78C-42BFB00B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29D-DAC7-4EA2-A8B3-09CB7EE6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CCBE-DF28-4DE1-B2A5-8716F82B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2FC-CF0E-4824-B804-0BFED0EB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6285-2664-47C1-8EF6-FFCCF28A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9A3E-399F-4458-B31E-40D17ACA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BA7-3B86-4AF2-9BEB-53EBD60E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B605-2931-4CE1-A7DB-ABA74C3D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D475-7F14-4279-982F-66E96F5B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ABB9-3BDD-493C-B73D-10B18D6D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5C70-C427-4B20-8928-CC08A1D6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512-DF7E-409C-95F9-FBE3C04E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D3931-637A-4B1A-8E45-18649D6EC0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