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72020"/>
        <c:axId val="93490204"/>
      </c:barChart>
      <c:catAx>
        <c:axId val="15572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90204"/>
        <c:crosses val="autoZero"/>
        <c:auto val="1"/>
        <c:lblAlgn val="ctr"/>
        <c:lblOffset val="100"/>
        <c:noMultiLvlLbl val="0"/>
      </c:catAx>
      <c:valAx>
        <c:axId val="93490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72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FE2-AB00-416E-8656-00F8E274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9D4-B930-4B21-A707-663396BD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12F-02F1-4554-8BE7-38B8DA7C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B65-1C41-4D3E-85EB-7B232986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EE3-E9DA-4AAC-8254-012F8FD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BF2-C2EC-4BAA-AD07-022370A9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15C-F49D-4102-B558-2E2A9DF2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D0A-F8B8-4CB2-90EB-A2357CF7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2BF-077B-4623-A888-9584A9EF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9F9-4669-47B8-AAB1-88B1636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1B2-F9AA-488F-A0A4-BAFA963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123-7A12-46DC-9C4E-C004598A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03FA8-6CE8-4932-ADD5-1055391026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