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7880"/>
        <c:axId val="31702210"/>
      </c:barChart>
      <c:catAx>
        <c:axId val="3507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02210"/>
        <c:crosses val="autoZero"/>
        <c:auto val="1"/>
        <c:lblAlgn val="ctr"/>
        <c:lblOffset val="100"/>
        <c:noMultiLvlLbl val="0"/>
      </c:catAx>
      <c:valAx>
        <c:axId val="317022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7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37A0-D9F2-4857-B262-D9A41A25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B004-4D2E-4DF7-8B5E-A4F86DA4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91B1-E324-47F3-83ED-F27C05A8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B96A-FFE2-43B9-A348-4C524390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D79-F019-4F8A-85F2-56DF5594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B82-0958-4D73-9C43-2CB1CEBB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3290-4D19-4599-AFAE-173F7C58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E74-7057-4F83-AFE8-C93B350E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F28-7189-4CF1-8B9D-4D830ECD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6B3-DD82-4842-8026-F1529206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4973-B3C7-4824-8E47-87FF71AE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B7C-8EEE-44C0-9C8A-42720DBA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20A8E-099D-4B40-B45F-A5CFAB2406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