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86583"/>
        <c:axId val="40875181"/>
      </c:barChart>
      <c:catAx>
        <c:axId val="996865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75181"/>
        <c:crosses val="autoZero"/>
        <c:auto val="1"/>
        <c:lblAlgn val="ctr"/>
        <c:lblOffset val="100"/>
        <c:noMultiLvlLbl val="0"/>
      </c:catAx>
      <c:valAx>
        <c:axId val="408751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865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C1E6-EBAC-4267-8ACF-73C36AFE0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6E70-0012-4F98-A509-B7F27A39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39AE-3343-4BB3-A2F1-55A47876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CFB5-783F-425B-A004-D675E992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95AB-1CA4-4A16-A119-85FB2F71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FE4-DB5F-4B72-90DA-2203854F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0D8-EEC6-4CC4-A48C-F97035DD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1D33-AFE8-4292-8219-BE690896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28C3-2903-4EF8-BD98-E3290EF2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13CD-8473-4EE5-A074-28C1403C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4CF7-9DC6-43F8-965B-BD704292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0101-8744-404D-B1F5-6887DBB1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B4B81-8B34-40D9-BDE9-F3338B265A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