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40918"/>
        <c:axId val="36467353"/>
      </c:barChart>
      <c:catAx>
        <c:axId val="39440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67353"/>
        <c:crosses val="autoZero"/>
        <c:auto val="1"/>
        <c:lblAlgn val="ctr"/>
        <c:lblOffset val="100"/>
        <c:noMultiLvlLbl val="0"/>
      </c:catAx>
      <c:valAx>
        <c:axId val="36467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40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B7D-5808-4AC2-86E5-F1093313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13A-1CF1-4C31-BB68-B08EBFF3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58A-A81E-449B-B894-557BA249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D49-4660-43FF-9CC0-ABF1D770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3C5-D584-4602-8DC3-0A6DA5FE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6E8-DDE2-4346-B064-77975275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6FF-0897-44BA-A63F-D1798C8F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0A1-50E6-4298-A93E-14C101FC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78E-5A27-4D10-B563-1D662788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FF7-21C0-47F5-8816-942ABE0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B4A-6574-46AF-A15B-C41432F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85F-90DF-48DE-8244-DC4A4C6F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3C294-6192-4CD3-B738-64076E39DF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