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83038"/>
        <c:axId val="90615572"/>
      </c:barChart>
      <c:catAx>
        <c:axId val="37783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15572"/>
        <c:crosses val="autoZero"/>
        <c:auto val="1"/>
        <c:lblAlgn val="ctr"/>
        <c:lblOffset val="100"/>
        <c:noMultiLvlLbl val="0"/>
      </c:catAx>
      <c:valAx>
        <c:axId val="90615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83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0F7-47B0-4931-B7FC-7142D3D4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458-AD11-4318-9A1F-FE97A468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DD1-D82C-4A57-B7FD-D92CB133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845-4774-48D6-B16C-9BAFB2F9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2BF-C3AA-45BB-82A0-4946D7A0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083-4A45-4ECF-8F5D-61B962C9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D21-F4F8-4D9D-B19C-757AAEF3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DB7-9557-412A-8884-F59C06A1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D85-6393-46ED-8377-D003BF6C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7AB-2978-4962-8DA7-81ABA879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C47-B9D3-4874-8F6C-1B3BC5C4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301-0969-4809-90CC-D5BC53DB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7B58D-795E-40C5-8428-BB3C308052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