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87562"/>
        <c:axId val="63804813"/>
      </c:barChart>
      <c:catAx>
        <c:axId val="262875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04813"/>
        <c:crosses val="autoZero"/>
        <c:auto val="1"/>
        <c:lblAlgn val="ctr"/>
        <c:lblOffset val="100"/>
        <c:noMultiLvlLbl val="0"/>
      </c:catAx>
      <c:valAx>
        <c:axId val="63804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875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7843-08B9-4B24-9A83-F34B82AD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4C9D-559E-44AB-A4E1-AEE0B46D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6A3F-80A3-4160-AD0C-4BC3AA76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705-20CC-4209-AEFB-781666BF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750E-72EA-4D93-A6DA-C08519D8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1B3-CDA5-49BD-B0F9-FD7EB8CE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6CBF-1AE4-4B72-8D80-711690AB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CBCE-D8A5-4374-9720-C07E090E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A56-677F-4391-906B-6E953B7B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1ABC-9A01-44AB-B1FD-B6079035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1C1F-1AEF-4002-B2DC-ECAED445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7F9-E19E-41B1-AD90-B1D008CA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D54C2-0691-4F66-88A9-77497312AD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