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068773"/>
        <c:axId val="71524156"/>
      </c:barChart>
      <c:catAx>
        <c:axId val="170687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24156"/>
        <c:crosses val="autoZero"/>
        <c:auto val="1"/>
        <c:lblAlgn val="ctr"/>
        <c:lblOffset val="100"/>
        <c:noMultiLvlLbl val="0"/>
      </c:catAx>
      <c:valAx>
        <c:axId val="715241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687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01E8-E710-468F-B2CE-850E69E4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D138-C9AA-4A42-98AB-B74C4ADE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DA83-E03C-44BF-B1D6-71F6CC7B4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B76E-1A7B-4EFE-9AB9-2CA3FAC85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07D1-A9DF-4EF2-AAB0-4FC83D9C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4F2A-E7BC-4DD4-993A-50844CA8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F544-C3D1-438D-A3D7-BE79C006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2ABD-B337-406F-A15F-6BA9C600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4103-C41D-481B-84E7-CD21EC60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260B-1F51-4ED3-8D8C-286D7BC9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1244-5393-46B1-A38B-1375CB99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2B75-1B12-490A-985D-D5EF24F4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78E5A-8A7F-40C2-A3BD-0480D63F46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