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93699"/>
        <c:axId val="51401968"/>
      </c:barChart>
      <c:catAx>
        <c:axId val="40693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01968"/>
        <c:crosses val="autoZero"/>
        <c:auto val="1"/>
        <c:lblAlgn val="ctr"/>
        <c:lblOffset val="100"/>
        <c:noMultiLvlLbl val="0"/>
      </c:catAx>
      <c:valAx>
        <c:axId val="51401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93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98D-EC81-43EC-88EE-9B1F5CE2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8F6-07D7-4978-A0F4-59B9209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897-2D89-47A0-99D0-0E7F1A8A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842-1CA1-4ADA-BC66-E5ADEFD3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2E9-BB8B-49A7-8738-DE5F6F8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430-6271-48A1-B146-EB40B4A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BE6-0A3D-45C8-B53C-1497A60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035-90DA-4EDE-B947-DBE887C6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94C-CAF0-45DB-A800-BB2F46B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850-E243-4ADC-8305-94A2750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B29-1371-45E2-A163-3F90BA3E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801-0043-4616-8985-BC3A1A2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8F508-5CEE-4224-B810-177664117E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