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6437"/>
        <c:axId val="64828069"/>
      </c:barChart>
      <c:catAx>
        <c:axId val="86716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8069"/>
        <c:crosses val="autoZero"/>
        <c:auto val="1"/>
        <c:lblAlgn val="ctr"/>
        <c:lblOffset val="100"/>
        <c:noMultiLvlLbl val="0"/>
      </c:catAx>
      <c:valAx>
        <c:axId val="64828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6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A7A-5CA3-4ACD-B16F-1981A471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662-F117-4445-BE57-71EF360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D1E-A823-460B-A3D3-513FE7A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2D2-5D30-4165-AC85-1279C108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892-93A3-49B8-B11B-2C07AE9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60F-0EA0-4CB5-8F90-C9FBE8F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001-A081-4C18-87E6-DE479572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331-33E4-4394-81FF-6A2FE9C9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A25-70F1-4FFB-9973-66963B4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E0F-CE5E-445B-B61F-51ECEA4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805-4237-4CB2-9243-0C3174E3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329-8049-473C-ADF7-147BE4B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1FDF-9A62-4051-9F1F-97184A025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