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75049"/>
        <c:axId val="75408053"/>
      </c:barChart>
      <c:catAx>
        <c:axId val="51975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8053"/>
        <c:crosses val="autoZero"/>
        <c:auto val="1"/>
        <c:lblAlgn val="ctr"/>
        <c:lblOffset val="100"/>
        <c:noMultiLvlLbl val="0"/>
      </c:catAx>
      <c:valAx>
        <c:axId val="75408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5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661-2E7D-4D07-B7A7-E0273D6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490-7D60-4366-908F-E18DD4A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7BB-BAF3-40E2-8DCA-D2E4A6C7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B2C-8173-4CDB-91D1-8E6BD4D9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E5B-E611-49E6-BC8D-CF58FD8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3FE-15F7-4BA9-95DD-5EF4F0B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69E-E26E-4429-BE96-65210B2D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042-589C-4F40-845E-C14369A5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B33-682F-480E-BAA8-D091E4C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85D-7255-4DE2-AAB9-F8C8D90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4C1-6C07-48C2-8C3A-D6B0E4E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640-AF76-4732-9690-B717332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5694E-FC1D-4A55-BF5A-3104D35ED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