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02285"/>
        <c:axId val="38015230"/>
      </c:barChart>
      <c:catAx>
        <c:axId val="14202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5230"/>
        <c:crosses val="autoZero"/>
        <c:auto val="1"/>
        <c:lblAlgn val="ctr"/>
        <c:lblOffset val="100"/>
        <c:noMultiLvlLbl val="0"/>
      </c:catAx>
      <c:valAx>
        <c:axId val="38015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2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CAC-866C-4B7D-9909-7E2AABEE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AEC-87FF-44FB-BBB6-41EFBBDE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768-19B1-4C42-B5B7-B14376B1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DD-CE31-453D-BD9F-CAFA63C5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393-8A1A-4DAD-A4E6-97717C2D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7E4-F3EE-4487-8E75-A13E1791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503-A8AF-4E11-AF05-B51E7DD1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5EE-C8D9-4294-86B2-F051C1C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49D-B9EE-4D13-9073-2F3145D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ED5-9315-467C-85A5-1F17DF7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497-B3B9-48DD-B0B3-C64C779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FD8-BF4D-4647-99E4-DC5975A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4FBE-011A-4447-BC77-59291A6E4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