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26210"/>
        <c:axId val="17149055"/>
      </c:barChart>
      <c:catAx>
        <c:axId val="79126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49055"/>
        <c:crosses val="autoZero"/>
        <c:auto val="1"/>
        <c:lblAlgn val="ctr"/>
        <c:lblOffset val="100"/>
        <c:noMultiLvlLbl val="0"/>
      </c:catAx>
      <c:valAx>
        <c:axId val="17149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6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EF3-376F-4C35-B512-C71C3C56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ACF-F43F-43EC-84E3-93ADED6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987-5C57-4044-A61F-1B405DA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636-0A0F-4B45-9B08-19F09B98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2AE-E639-4CD3-B4AF-28BDB41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817-58B2-4B46-BDAC-D69285B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912-CCD3-4078-BC74-CDB01A4E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CEC-4E3E-4B53-B29B-2201313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D65-7B82-432B-83CB-8C78CA96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27B-6AB0-4180-B74F-9290545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1F5-A930-4E94-B7DC-D771627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85A-E231-46D9-9ADE-55C8958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277EB-3C81-4F79-B9C4-63040B689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