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21867"/>
        <c:axId val="56959705"/>
      </c:barChart>
      <c:catAx>
        <c:axId val="19421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9705"/>
        <c:crosses val="autoZero"/>
        <c:auto val="1"/>
        <c:lblAlgn val="ctr"/>
        <c:lblOffset val="100"/>
        <c:noMultiLvlLbl val="0"/>
      </c:catAx>
      <c:valAx>
        <c:axId val="56959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1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C97-647B-40D3-8651-48196B8E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23A-C582-4B54-9094-5A2D1C8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3A2-BD4B-40B8-9D31-79C84938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92B-A0E1-4A41-AF76-2F69E36A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9DC-1BC7-4E8E-8BBA-9C8DBCF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FE8-E583-472F-8C4B-9809D21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392-681F-4AAB-975A-58F9F7F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B05-8BEB-45A6-90F5-8E1A7C30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962-604F-4E86-B5D1-DA91797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AC2-5464-4B71-B9F2-C1725CB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215-89EE-4341-A3B6-0F018C8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F08-3E72-48D5-A8C9-250A8068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F42E-2490-4CEE-886A-F5A401A932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