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909574"/>
        <c:axId val="21219023"/>
      </c:barChart>
      <c:catAx>
        <c:axId val="419095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19023"/>
        <c:crosses val="autoZero"/>
        <c:auto val="1"/>
        <c:lblAlgn val="ctr"/>
        <c:lblOffset val="100"/>
        <c:noMultiLvlLbl val="0"/>
      </c:catAx>
      <c:valAx>
        <c:axId val="212190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095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2505-210B-4856-9D5B-24005231D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EF79-CEA7-4B8B-A5B9-959F6260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D3B1-D994-45C6-A3C8-AC929044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C34B-C954-4D81-8CB7-562FCFD7F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840A-81F1-4270-853D-AA058EF5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67C6-988B-434C-A940-DFC40E61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7234-0CFD-4615-AA85-C4A8E399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CA85-5C57-485C-8E44-74F9032E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3490-0687-4817-BF1D-0FA3E5EC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2563-0CF6-4517-81D8-5AD9580F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A8EE-6ACD-4367-9596-14A0BC87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F416-C55B-43A6-B910-169568C7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E7E75-2F72-42D8-882C-463964907B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