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95467"/>
        <c:axId val="92217120"/>
      </c:barChart>
      <c:catAx>
        <c:axId val="75095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17120"/>
        <c:crosses val="autoZero"/>
        <c:auto val="1"/>
        <c:lblAlgn val="ctr"/>
        <c:lblOffset val="100"/>
        <c:noMultiLvlLbl val="0"/>
      </c:catAx>
      <c:valAx>
        <c:axId val="922171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95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230-4FB6-4950-9935-E7B3FCFD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2724-EE8B-4E4F-989B-E1F0A416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CCD-FACC-4391-835F-4EA7642F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6334-2A9E-4A71-BBF9-23C5B9EF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54C-6321-422A-8DF3-CEF70BAC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D2E-29A7-4B80-BDDF-4C62AD51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BED-6CD5-42CF-BA34-B2BB66CE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11B-12EB-4829-80B6-0C89B9F7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F834-2390-4F23-9229-34A44121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39C5-75DF-48ED-B5C1-24EB6738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ADB1-EC00-4FD5-B0B1-6B831CA9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61E7-08EA-4ECB-8AEE-AC083535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7B324-A63D-4881-8CAD-E2F874A46A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