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293543"/>
        <c:axId val="52787449"/>
      </c:barChart>
      <c:catAx>
        <c:axId val="872935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787449"/>
        <c:crosses val="autoZero"/>
        <c:auto val="1"/>
        <c:lblAlgn val="ctr"/>
        <c:lblOffset val="100"/>
        <c:noMultiLvlLbl val="0"/>
      </c:catAx>
      <c:valAx>
        <c:axId val="527874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2935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60FF-9628-4DF7-BC43-EDDE65CB8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C2D0-959F-45BC-AD66-747FC9E0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D262-58DB-48FD-9026-085BBC926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2A40-9E3A-4C19-82A7-9D09F75B5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E641-3039-48B0-B7A9-8B1C5498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F6CD-00AB-41EC-AC40-E7C89C1B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2AC6-079C-45C6-A06F-2CBE0E5D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B6BD-8EF6-46B1-83CC-29247B90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2311-F399-4121-99AA-C99C4262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66D6-D937-4456-AE25-2FC5B454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F87A-5F04-4FE1-83DA-71431047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A0B5-C42F-4876-9586-E52F6C98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295754-386A-41A4-BE59-86983B416A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