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23345"/>
        <c:axId val="76648948"/>
      </c:barChart>
      <c:catAx>
        <c:axId val="17523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48948"/>
        <c:crosses val="autoZero"/>
        <c:auto val="1"/>
        <c:lblAlgn val="ctr"/>
        <c:lblOffset val="100"/>
        <c:noMultiLvlLbl val="0"/>
      </c:catAx>
      <c:valAx>
        <c:axId val="76648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3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DAB-EAAC-4372-B2C6-9E19EFC7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E48-329D-4A4B-BFBC-71320CCD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E4B-B04F-49CE-BFF1-55560C70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06D-6F9A-4955-A7A2-381658FB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525-75C6-436D-873F-F14BA76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19C-E7B5-4B70-9E88-D98B03A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1C2-6C14-4B35-A014-F5844576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1ED-0D55-4D29-A396-F757FE60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CF8-7A06-425A-B31B-BE194EEE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EE3-BFDD-4217-A348-C0BEA65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221-D969-4379-A3D1-E4FAD8CA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295-4128-441D-B73D-BE63EFF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9139F-736F-4E11-BFB1-63940C321F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