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154720"/>
        <c:axId val="94042601"/>
      </c:barChart>
      <c:catAx>
        <c:axId val="631547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042601"/>
        <c:crosses val="autoZero"/>
        <c:auto val="1"/>
        <c:lblAlgn val="ctr"/>
        <c:lblOffset val="100"/>
        <c:noMultiLvlLbl val="0"/>
      </c:catAx>
      <c:valAx>
        <c:axId val="940426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1547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EA47-C36D-4C69-9519-02E9B010F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26EF-9899-45AE-BBF8-3DFFD1616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5CC9-046C-44BC-9CDC-8196B9124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A0FA-E967-4A5F-B4D8-53F6C9E69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5EE5-AFA3-4F77-B3D7-2EB2E2D2B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19AB-9C0F-4F8E-B008-19B746534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3E70-280A-4A32-B245-CA440F11F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6F58-4983-4A97-8CD3-0D2AED49A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32E4-29AF-4C6A-9315-C66D2ABE1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94CD-D853-4DB5-8884-C548A37FB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2047-2164-47ED-BAED-424FBB4A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456D-C705-4320-8279-91892A91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4B7339-CB66-4151-95DE-9BB474E13E9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