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93689"/>
        <c:axId val="21467858"/>
      </c:barChart>
      <c:catAx>
        <c:axId val="27093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67858"/>
        <c:crosses val="autoZero"/>
        <c:auto val="1"/>
        <c:lblAlgn val="ctr"/>
        <c:lblOffset val="100"/>
        <c:noMultiLvlLbl val="0"/>
      </c:catAx>
      <c:valAx>
        <c:axId val="21467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93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3C3-7692-4305-9FD4-B8E885DE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358-6D0F-49DA-BC32-B3F94B42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91A-F471-48DA-A614-452B4BD4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234-9607-464F-B272-7ED32892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89F-4153-4964-AD6F-EEA09636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524-9924-4590-9A55-714FB6AB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A96-14D5-41A2-9304-A2959D3C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F68-99FE-40C6-8554-17B81868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D71-A3D7-40D7-ABBB-1C480AAD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C39-160C-4AC9-8DA6-3B346F6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233-75F1-47FE-8DA3-557EF80C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2CA-B1C2-4107-A6D3-BB022BED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B76D1-7DB3-476F-A5D2-3C7BD90C8E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