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44620"/>
        <c:axId val="87413777"/>
      </c:barChart>
      <c:catAx>
        <c:axId val="51444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3777"/>
        <c:crosses val="autoZero"/>
        <c:auto val="1"/>
        <c:lblAlgn val="ctr"/>
        <c:lblOffset val="100"/>
        <c:noMultiLvlLbl val="0"/>
      </c:catAx>
      <c:valAx>
        <c:axId val="87413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44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DA4-7BCD-430E-BBD9-7359E14F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530-1C3C-4069-B90B-C29F04A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D96-EA90-476F-B0D6-673A367A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22F-2901-43B1-A5B7-F91C5BDD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571-EE38-41DE-ADE6-2141339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272-262E-47F2-926A-855ED33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A55-8C77-432C-B362-F1E2AB36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B58-6014-4594-8B1C-E9DF2960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493-FFDF-419E-882D-C77AEAE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76E-1408-4895-83A9-11506E6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0AF-6B70-4706-9D9E-C7F4516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137-15E8-4413-8940-665F834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11B33-8D86-4636-A51A-E64D521A79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