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86352"/>
        <c:axId val="97941791"/>
      </c:barChart>
      <c:catAx>
        <c:axId val="21186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41791"/>
        <c:crosses val="autoZero"/>
        <c:auto val="1"/>
        <c:lblAlgn val="ctr"/>
        <c:lblOffset val="100"/>
        <c:noMultiLvlLbl val="0"/>
      </c:catAx>
      <c:valAx>
        <c:axId val="97941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86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BB0-39AB-4460-8492-A8458045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02D-A7B3-4255-9561-45FBBA68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BE9-6D04-419C-8984-34F42EC1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DE7-0988-4095-8C15-4CAF020B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2C5-22BC-4D78-B7F7-AC03042B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7C6-7C6C-4F7B-BB8A-FAC21D21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999-1DB9-4F1D-8FC7-D639E40E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794-1467-4DF1-8B5D-4B829271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4A0-F5CF-401A-BD14-EA262F9C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3D1-375C-4E87-BCFC-A410A141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28B-4A7C-43CE-85B0-8946CEF2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76B-A559-4CFB-8FDA-B6F23FE5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F3A09-D282-41C6-B420-F590D49788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