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25612"/>
        <c:axId val="13836063"/>
      </c:barChart>
      <c:catAx>
        <c:axId val="62525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36063"/>
        <c:crosses val="autoZero"/>
        <c:auto val="1"/>
        <c:lblAlgn val="ctr"/>
        <c:lblOffset val="100"/>
        <c:noMultiLvlLbl val="0"/>
      </c:catAx>
      <c:valAx>
        <c:axId val="13836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25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CE9-003C-4347-9CBC-11DA0980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C14-A926-4BC0-9938-DB0877AD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2D5-5CEF-4EDC-8C74-417D5110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349-17D2-4311-8E66-887001FF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915-1341-4225-91C8-4D2E1498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1EA-A8A1-4768-AE73-A6898915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30C-09ED-4AD6-8C7D-95F603CC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3F8-031F-40B4-96D9-4A46372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A82-6D03-4091-9CAC-1E7E9F52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E30-55B6-4685-86AB-87FA132E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B8E-7241-4CF4-ABE4-36BA3243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211-DE34-40B4-A7C3-B8EDCAAE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37C5F-0184-469A-8098-3269C681A3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