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30908"/>
        <c:axId val="65060429"/>
      </c:barChart>
      <c:catAx>
        <c:axId val="45130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60429"/>
        <c:crosses val="autoZero"/>
        <c:auto val="1"/>
        <c:lblAlgn val="ctr"/>
        <c:lblOffset val="100"/>
        <c:noMultiLvlLbl val="0"/>
      </c:catAx>
      <c:valAx>
        <c:axId val="65060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30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9D8-5895-46BD-9588-B4B6E739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B93-A93D-4AAC-8E33-90AAFEA6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346-FA49-44ED-B0C1-37B48468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157-9F04-4CCA-8551-CB20A373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17D-6762-4744-A41C-7B9D63DD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318-5BE6-4AA2-9FAA-090DAB97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0DA-741C-4199-A55F-749B463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AF8-6BEE-43AA-AAED-C22F1823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FF6-2DD1-4948-881B-B59FDA9F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FF6-5A52-4874-82F4-A5E3F579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1CE-5241-4C60-AB48-FA46EB1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458-4548-44EB-B662-DAB793A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C8D77-9257-471B-915D-AA97A5237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