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70807"/>
        <c:axId val="2295534"/>
      </c:barChart>
      <c:catAx>
        <c:axId val="87370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5534"/>
        <c:crosses val="autoZero"/>
        <c:auto val="1"/>
        <c:lblAlgn val="ctr"/>
        <c:lblOffset val="100"/>
        <c:noMultiLvlLbl val="0"/>
      </c:catAx>
      <c:valAx>
        <c:axId val="2295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70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AA0-5B70-451F-8DB7-A5F18E2DE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98FB-28C1-48B7-ACC2-5F865616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222-5281-497D-B19B-A78322BF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09A-DDA4-4D60-A494-02B75DA6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78E-75E5-4CCF-A4A9-89BA2B86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2C3-E01A-4080-8856-9613B5A6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9420-BA48-47F4-B5A7-01012F65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B595-851D-4A2C-927A-32B86295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289-1869-40D5-BEAC-D639023F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FBE-0F8C-42D0-B173-9C1FCDED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AC0-0547-4698-9924-2E725CF7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15D-1105-4F18-833A-B6DCCE1A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96485-ADC8-4C30-A570-6CC40EBE2C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