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9178628"/>
        <c:axId val="74806963"/>
      </c:barChart>
      <c:catAx>
        <c:axId val="2917862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806963"/>
        <c:crosses val="autoZero"/>
        <c:auto val="1"/>
        <c:lblAlgn val="ctr"/>
        <c:lblOffset val="100"/>
        <c:noMultiLvlLbl val="0"/>
      </c:catAx>
      <c:valAx>
        <c:axId val="7480696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17862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FEB2-3DDB-4FC9-98E6-5D07D099A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D0B3-A896-4B7F-B848-FBAC16C1B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3278-88BD-4486-8054-617AF6A83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B48C-6FBD-48CF-9706-CFFA34176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9531-061C-4454-B97D-75F0D27EA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956D-F777-498B-ADFE-63F1E18A2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5ABF-EB15-4399-AC81-33D0FFD41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F108-69B2-4368-9543-E6667DA49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2383-83EE-486A-9C52-7FB3A89E0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73B6-1A7E-4B79-93BD-ED6319E92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7561-7499-4FBC-AD49-0CEA53757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5FE2-634B-4E4A-BF40-DDEFB7E37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D94DC7-6714-434C-88CE-1BF34637815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