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73442"/>
        <c:axId val="65331182"/>
      </c:barChart>
      <c:catAx>
        <c:axId val="87573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31182"/>
        <c:crosses val="autoZero"/>
        <c:auto val="1"/>
        <c:lblAlgn val="ctr"/>
        <c:lblOffset val="100"/>
        <c:noMultiLvlLbl val="0"/>
      </c:catAx>
      <c:valAx>
        <c:axId val="65331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73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143-141C-4620-9F24-51B6F728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87F-2EAC-4F8E-A04D-4F7E6339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1C5-AC64-46AE-A333-B6C6CD9F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604-8B77-4734-BAD7-A967CB85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106-7D7F-4657-A151-2646F49D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382-C41D-479C-A5F7-70DE5357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DEE-0B0C-4F3A-A6F0-3E9FC72E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802-1B29-4C46-817B-7AB078DE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352-75EC-4BAB-912A-B4F1FCE0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0D7-51A7-4089-9D37-4908CAAB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A6C-F4A3-40D4-8524-9A31CED3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005-4ABE-4E92-B125-BFA7659A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2A039-9D14-406C-9B18-5BD08232A5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