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29837"/>
        <c:axId val="31323699"/>
      </c:barChart>
      <c:catAx>
        <c:axId val="11829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3699"/>
        <c:crosses val="autoZero"/>
        <c:auto val="1"/>
        <c:lblAlgn val="ctr"/>
        <c:lblOffset val="100"/>
        <c:noMultiLvlLbl val="0"/>
      </c:catAx>
      <c:valAx>
        <c:axId val="31323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29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B6C-1971-4CD9-AD0B-89494682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731-9AE2-4F44-829C-23966530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218-3B71-4E66-90D1-CF565433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DDF-7AC3-4A75-8B45-F19651CF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771-A2E0-49DA-BAE6-CC0B485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A5C-7D12-4CA7-BDE3-0487E3E5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87C-9E8A-4434-B08F-A8A43707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BE7-1599-4E3A-9162-49B747F2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C0A-D2CD-4897-AEFC-CBA9081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954-8F26-42EB-BF89-5182889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5F9-7588-4130-9F22-D7A78C2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C88-179A-43DB-A25B-7C19EB9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59B03-5901-4E5B-9694-E9958A4EC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