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037961"/>
        <c:axId val="3275043"/>
      </c:barChart>
      <c:catAx>
        <c:axId val="930379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5043"/>
        <c:crosses val="autoZero"/>
        <c:auto val="1"/>
        <c:lblAlgn val="ctr"/>
        <c:lblOffset val="100"/>
        <c:noMultiLvlLbl val="0"/>
      </c:catAx>
      <c:valAx>
        <c:axId val="32750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379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177-0BBD-4F7F-9078-84527B50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2B3F-EDEF-4AC5-B04A-C0AB69E3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236-E041-4DD5-8125-FBAF6D23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B6CB-7542-4E47-9392-CB20DAF4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09C2-8DA2-46D8-92D5-269B9E03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98E0-F52F-45CD-BF70-5EF008F9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4DBC-63D4-4908-96D2-79F662B6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DA1-5C2A-4944-B254-B2C805EB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1E61-9CF9-436A-81A3-03451C2A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9C8B-00C5-4107-8B69-0E8D6107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0CF-49D4-48B4-BF24-D8B2E6F5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7A3A-1A06-45FE-82F4-0BA36762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306AF-908C-4D6C-A6B2-EFF56DF0D8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