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19680"/>
        <c:axId val="37092363"/>
      </c:barChart>
      <c:catAx>
        <c:axId val="17719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2363"/>
        <c:crosses val="autoZero"/>
        <c:auto val="1"/>
        <c:lblAlgn val="ctr"/>
        <c:lblOffset val="100"/>
        <c:noMultiLvlLbl val="0"/>
      </c:catAx>
      <c:valAx>
        <c:axId val="370923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19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97F-9599-47B1-8215-23AFE888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BA-42E5-4232-A59F-5830BC94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9E3-A00A-4572-8F27-4EA82A7BD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4B3-579E-4829-B3EA-4568FAC0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FA1-9B89-4166-8061-73D25ACB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EB8-DF5A-4B06-B6A0-3A94EE3A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A278-2AD3-41B0-A38D-61A7FB8F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997A-95AC-4E33-8B2C-600D5E9C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3E92-8653-4A4E-8551-BCFEE61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67D6-F80B-4119-8024-90CF8F3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85F-01A6-45C7-93F9-B1C1DE18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35B-053B-4E66-A3BD-F1943EB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5497B-3B28-46CB-B415-D57FF5B3B4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