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13293"/>
        <c:axId val="85034100"/>
      </c:barChart>
      <c:catAx>
        <c:axId val="12013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4100"/>
        <c:crosses val="autoZero"/>
        <c:auto val="1"/>
        <c:lblAlgn val="ctr"/>
        <c:lblOffset val="100"/>
        <c:noMultiLvlLbl val="0"/>
      </c:catAx>
      <c:valAx>
        <c:axId val="85034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13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49B-4836-4638-B810-49DCB96E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865-DAC3-45F2-A730-EFE4331F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066-F756-467C-AA48-E01421CB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90B-CCC0-45A4-B7D0-789E8C65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9B1-7ED5-4CBE-BA66-C07099D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D0D-A33B-4579-B3FA-B1EEA8CE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42D-7079-4EAE-A747-C475784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686-65F3-4D13-B228-4D9BE335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1E-2D1E-4568-8168-0B1AD3F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5B4-658A-43DE-A76C-9B46772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54D-157B-443D-B9B9-EC48EDA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2CF-AABB-478F-AD41-29ADB51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DA950-CFC5-4099-A7BF-097EE615C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