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97547"/>
        <c:axId val="41457808"/>
      </c:barChart>
      <c:catAx>
        <c:axId val="1219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57808"/>
        <c:crosses val="autoZero"/>
        <c:auto val="1"/>
        <c:lblAlgn val="ctr"/>
        <c:lblOffset val="100"/>
        <c:noMultiLvlLbl val="0"/>
      </c:catAx>
      <c:valAx>
        <c:axId val="41457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8E0-3C91-45A2-BA6B-EC65A138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FF5-3850-43C7-ADAD-F9036C34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703-5B64-4BA2-BBE5-2CB3F7FE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759-49F1-4366-B792-5797360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454-1719-4418-A7A7-B8DBB65F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DE0-CB08-435C-BB08-5E79DAD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35C-F390-41AE-BBE9-EEEE6E3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915-6861-4C6F-9BDD-AFC244E8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E96-7D00-44C1-BC97-8E9A987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067-93D7-44FD-ACCD-35FFD42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217-EEC8-4E87-B99E-71793B9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E45-4E53-4FD3-8DC3-315CB50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AC736-6B60-4C54-9C00-D30607039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