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45952"/>
        <c:axId val="95117531"/>
      </c:barChart>
      <c:catAx>
        <c:axId val="49345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17531"/>
        <c:crosses val="autoZero"/>
        <c:auto val="1"/>
        <c:lblAlgn val="ctr"/>
        <c:lblOffset val="100"/>
        <c:noMultiLvlLbl val="0"/>
      </c:catAx>
      <c:valAx>
        <c:axId val="95117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5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7FD-81A1-47AA-AA0E-8130AE0A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1EC-7A05-4936-ADA1-A9B96F56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484-E733-45E2-82AB-5E5F822D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412-2CFC-4E7A-BD48-B6A2C427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73C-7704-440B-8C81-D7F42BA5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185-671A-475E-B156-D7F8B298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818-856E-4EE3-8A3B-F5884B73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95C-7B33-4CEE-A516-68AF5B70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07B-76ED-4EDD-875F-0A56BD5E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C38-CA3D-4B7B-BB85-426EBFA9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800-F708-4549-B11F-E0B958E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04D-6A9A-464B-84C6-724124A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A69C8-5541-48F3-A308-F2A26B36C1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