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5839655"/>
        <c:axId val="81908183"/>
      </c:barChart>
      <c:catAx>
        <c:axId val="3583965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908183"/>
        <c:crosses val="autoZero"/>
        <c:auto val="1"/>
        <c:lblAlgn val="ctr"/>
        <c:lblOffset val="100"/>
        <c:noMultiLvlLbl val="0"/>
      </c:catAx>
      <c:valAx>
        <c:axId val="8190818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83965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17D2-DDEF-416B-A326-95B13A17A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2705-BC02-45E8-9A15-196B9A256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4C7F-9E87-4835-807A-A2BBCB68B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2A42-FFBA-4247-B413-AD4C51E26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79A5-9A98-45E1-90C8-D494F6323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9DE5-185A-4CD4-9F51-DFD386648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4FF2-162C-407E-840B-D68604DC7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7E86-08B8-4E4A-8E5F-349186F8C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162D-4843-46A7-AC86-4065BE63C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B307-4846-4799-8762-7557316AE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E706-D8BC-42E2-B3AB-FC1974646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915F-D8EE-4E41-A1D3-F2EC9EDB9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550EA7-1281-4A9F-A7E5-007CDE06A34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