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4887373"/>
        <c:axId val="18122063"/>
      </c:barChart>
      <c:catAx>
        <c:axId val="8488737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122063"/>
        <c:crosses val="autoZero"/>
        <c:auto val="1"/>
        <c:lblAlgn val="ctr"/>
        <c:lblOffset val="100"/>
        <c:noMultiLvlLbl val="0"/>
      </c:catAx>
      <c:valAx>
        <c:axId val="1812206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88737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E2B56-9D14-47C6-A65C-90112DD1F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7F700-1826-4153-804B-395FE1DDA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4C30C-FB40-4FBB-9649-764B9AC09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9FECB-AADF-44E2-B665-DA636139D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F505C-159D-47DA-AB11-E98CD337E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53037-BD64-4BED-A86D-FEA73845C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E0057-4969-4011-A4BD-7987E1A32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7BBBF-FBF4-4ECB-AABA-86ABD117E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8DA9A-E5F5-428B-92F3-7B9FFB0EE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FE4B9-678C-4337-85F5-F066F6367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CB44A-1B37-4FA3-96A2-9ABC13501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6AE7C-19BE-464B-8A11-F806D86A4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5B7573-0661-4FCE-B23A-88D11917AA9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