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22364"/>
        <c:axId val="85273072"/>
      </c:barChart>
      <c:catAx>
        <c:axId val="37422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73072"/>
        <c:crosses val="autoZero"/>
        <c:auto val="1"/>
        <c:lblAlgn val="ctr"/>
        <c:lblOffset val="100"/>
        <c:noMultiLvlLbl val="0"/>
      </c:catAx>
      <c:valAx>
        <c:axId val="852730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22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A6E-641E-4106-930F-074D7503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88F-9406-4B8B-935D-F0C4FBAC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0D9-232B-40A7-882C-80F83D20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DB0-F5ED-4086-B7AD-40833C38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A1B-92FE-432E-963C-6D5E30C1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4AD-4AF8-4A85-86D5-6E15D54C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BB5-9AAE-4859-A1B5-115F2AFF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69C-624A-4F27-91BE-F250807A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194-CCAA-49B5-95FD-6EEB339E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308-44D0-42E3-964A-8971E15E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320-20D6-4102-8077-20A72947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D55-0019-44F6-8957-1AB655C6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4C4A8-3234-4506-920C-E25C8B276D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